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0CE-B0C4-4B7C-85BB-06323E74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F3EE-D470-416A-99F6-52A4F1A7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41C8-F605-461F-B999-FB4C3978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ADF2-306D-43D1-8CE1-4F37FB9D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77FA-8632-49D3-911A-A307CD49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48DD-458F-4EA0-9CD0-7F813C83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3EE6-BBFE-4740-A6AE-B1CED9B8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E242-8DD1-45A4-8B35-ACF6016F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C58A-92A2-47C6-84D3-910652FB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54EC-EB8B-4CEC-9127-5FBD515C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2494-7BF1-4E63-8346-4A44FD16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7CF2-196D-4E23-9452-778813D3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0246-4DFE-4441-9008-4FDBFC97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1F78-08D9-47E0-BA58-00E91EA7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1A5D-45E3-4CF7-B264-019774F2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D5CD-3961-492E-847C-77B33EDD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3499-50E9-4D52-9497-AE4B0F0B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2DD42-813F-4E97-9AE3-E4D30B79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4FE47-ED45-479B-A0E2-6A1EC603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03DEF-398D-4BB5-B805-15786522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C8EC0-119D-43DB-96DD-8E492607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B59A1-6723-4EB4-AEA3-CF8E4920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3AE4-464D-4A5E-894A-F3636F42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7CAD6-123F-4299-9F9F-CD669F0F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49C98-A4D4-4CF8-9693-3DB4ABEF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BCC73-B28F-4B26-9E62-78EF386C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4DF71-327E-4E35-A593-41431FBB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F760E-4ABF-4C65-BE01-5AFE3704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416A0-0A84-4FDA-9AE4-325C7556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E3ABC-EDD4-44BA-8C65-B703F59A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4D2F-C140-43F4-8473-30DCFBEC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A3AE-3542-4283-8BAB-53005DC3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3A93-698F-44EA-9D8B-06C75C14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2DAD-1077-4A31-8A96-B95B25A8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43F3-4B72-4BBD-A335-F26C28BA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47B7-A692-4909-877D-841FB5C2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2" marL="1600200" indent="-318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899560"/>
            <a:ext cx="298764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1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7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899560"/>
            <a:ext cx="405432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899560"/>
            <a:ext cx="298764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17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673F879F-7D04-4FFF-83FE-BFE77022F5A1}" type="slidenum">
              <a:rPr b="0" lang="ja-JP" sz="17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64680"/>
            <a:ext cx="9979200" cy="1390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98400" y="1977840"/>
            <a:ext cx="11404800" cy="6894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18960"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00" y="8934120"/>
            <a:ext cx="2987640" cy="493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389480" y="8934120"/>
            <a:ext cx="4054320" cy="493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9189720" y="8934120"/>
            <a:ext cx="2987640" cy="493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381F-D4BF-4456-880A-410DA52E602A}" type="slidenum"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50840" y="0"/>
            <a:ext cx="303120" cy="9601200"/>
          </a:xfrm>
          <a:prstGeom prst="rect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1776240"/>
            <a:ext cx="12045960" cy="10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4" descr="IPA"/>
          <p:cNvPicPr/>
          <p:nvPr/>
        </p:nvPicPr>
        <p:blipFill>
          <a:blip r:embed="rId2"/>
          <a:stretch/>
        </p:blipFill>
        <p:spPr>
          <a:xfrm>
            <a:off x="11145960" y="365040"/>
            <a:ext cx="1284120" cy="7239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957240" y="2482920"/>
            <a:ext cx="453960" cy="292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0" y="4800600"/>
            <a:ext cx="12045960" cy="10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5" descr="名称未設定-4"/>
          <p:cNvPicPr/>
          <p:nvPr/>
        </p:nvPicPr>
        <p:blipFill>
          <a:blip r:embed="rId3"/>
          <a:stretch/>
        </p:blipFill>
        <p:spPr>
          <a:xfrm>
            <a:off x="689040" y="426960"/>
            <a:ext cx="5272200" cy="11383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3"/>
          <p:cNvSpPr/>
          <p:nvPr/>
        </p:nvSpPr>
        <p:spPr>
          <a:xfrm>
            <a:off x="651960" y="9236160"/>
            <a:ext cx="484740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3 Information-technology Promotion Agency, Japa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580960" y="9212400"/>
            <a:ext cx="3645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Software Engineering Cen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図 13" descr="IPAロゴ.AJPG.bmp"/>
          <p:cNvPicPr/>
          <p:nvPr/>
        </p:nvPicPr>
        <p:blipFill>
          <a:blip r:embed="rId4"/>
          <a:stretch/>
        </p:blipFill>
        <p:spPr>
          <a:xfrm>
            <a:off x="8191440" y="9294840"/>
            <a:ext cx="436680" cy="3063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364680"/>
            <a:ext cx="9979200" cy="1390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98400" y="1977840"/>
            <a:ext cx="11404800" cy="6894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18960"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55200" y="8934120"/>
            <a:ext cx="2987640" cy="493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389480" y="8934120"/>
            <a:ext cx="4054320" cy="493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9189720" y="8934120"/>
            <a:ext cx="2987640" cy="493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AR P丸ゴシック体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E6AF841F-9CFE-4080-B97F-3F8865CE4E01}" type="slidenum">
              <a:rPr b="0" lang="en-US" sz="2000" spc="-1" strike="noStrike">
                <a:solidFill>
                  <a:srgbClr val="000000"/>
                </a:solidFill>
                <a:latin typeface="Arial"/>
                <a:ea typeface="AR P丸ゴシック体E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62120" y="2742840"/>
            <a:ext cx="9928080" cy="18558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 Black"/>
                <a:ea typeface="ＭＳ Ｐゴシック"/>
              </a:rPr>
              <a:t>SPINA</a:t>
            </a:r>
            <a:r>
              <a:rPr b="0" lang="en-US" sz="5000" spc="-1" strike="noStrike" baseline="30000">
                <a:solidFill>
                  <a:srgbClr val="003399"/>
                </a:solidFill>
                <a:latin typeface="Arial Black"/>
                <a:ea typeface="ＭＳ Ｐゴシック"/>
              </a:rPr>
              <a:t>3</a:t>
            </a:r>
            <a:r>
              <a:rPr b="0" lang="en-US" sz="5000" spc="-1" strike="noStrike">
                <a:solidFill>
                  <a:srgbClr val="003399"/>
                </a:solidFill>
                <a:latin typeface="Arial Black"/>
                <a:ea typeface="ＭＳ Ｐゴシック"/>
              </a:rPr>
              <a:t>CH</a:t>
            </a:r>
            <a:r>
              <a:rPr b="0" lang="ja-JP" sz="50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自律改善メソッド</a:t>
            </a:r>
            <a:br>
              <a:rPr sz="5000"/>
            </a:br>
            <a:r>
              <a:rPr b="0" lang="ja-JP" sz="5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～シート集～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771280" y="5506920"/>
            <a:ext cx="8961480" cy="24544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１．問題気づきシ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２．問題点カー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３．問題分析・絞り込みシ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４．改善検討業務選択シ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５．改善計画・実績シート（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６．ふり返りシート（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568440" y="8356680"/>
            <a:ext cx="5616360" cy="836640"/>
          </a:xfrm>
          <a:prstGeom prst="rect">
            <a:avLst/>
          </a:prstGeom>
          <a:ln w="0">
            <a:noFill/>
          </a:ln>
        </p:spPr>
      </p:pic>
      <p:sp>
        <p:nvSpPr>
          <p:cNvPr id="135" name="サブタイトル 1"/>
          <p:cNvSpPr/>
          <p:nvPr/>
        </p:nvSpPr>
        <p:spPr>
          <a:xfrm>
            <a:off x="6472080" y="7656480"/>
            <a:ext cx="6050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IPA 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独立行政法人　情報処理推進機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技術本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SEC 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フトウェア・エンジニアリング・センタ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円/楕円 61"/>
          <p:cNvSpPr/>
          <p:nvPr/>
        </p:nvSpPr>
        <p:spPr>
          <a:xfrm>
            <a:off x="911160" y="4013280"/>
            <a:ext cx="1876320" cy="1009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要求抽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要求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円/楕円 62"/>
          <p:cNvSpPr/>
          <p:nvPr/>
        </p:nvSpPr>
        <p:spPr>
          <a:xfrm>
            <a:off x="3273480" y="2793960"/>
            <a:ext cx="1724040" cy="1009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見積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計画立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円/楕円 63"/>
          <p:cNvSpPr/>
          <p:nvPr/>
        </p:nvSpPr>
        <p:spPr>
          <a:xfrm>
            <a:off x="5283360" y="2793960"/>
            <a:ext cx="1647720" cy="1009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進捗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円/楕円 64"/>
          <p:cNvSpPr/>
          <p:nvPr/>
        </p:nvSpPr>
        <p:spPr>
          <a:xfrm>
            <a:off x="7559640" y="2793960"/>
            <a:ext cx="2181240" cy="1009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工程完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リリース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円/楕円 65"/>
          <p:cNvSpPr/>
          <p:nvPr/>
        </p:nvSpPr>
        <p:spPr>
          <a:xfrm>
            <a:off x="1790640" y="5565600"/>
            <a:ext cx="1647720" cy="1000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899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要求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899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要件定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円/楕円 66"/>
          <p:cNvSpPr/>
          <p:nvPr/>
        </p:nvSpPr>
        <p:spPr>
          <a:xfrm>
            <a:off x="3809880" y="5584680"/>
            <a:ext cx="1648080" cy="1000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設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円/楕円 67"/>
          <p:cNvSpPr/>
          <p:nvPr/>
        </p:nvSpPr>
        <p:spPr>
          <a:xfrm>
            <a:off x="5762520" y="5584680"/>
            <a:ext cx="1648080" cy="1000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実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円/楕円 68"/>
          <p:cNvSpPr/>
          <p:nvPr/>
        </p:nvSpPr>
        <p:spPr>
          <a:xfrm>
            <a:off x="7873920" y="5565600"/>
            <a:ext cx="1648080" cy="1000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円/楕円 69"/>
          <p:cNvSpPr/>
          <p:nvPr/>
        </p:nvSpPr>
        <p:spPr>
          <a:xfrm>
            <a:off x="9960120" y="4346640"/>
            <a:ext cx="2143080" cy="733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納品後対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5" name="曲線コネクタ 70"/>
          <p:cNvCxnSpPr/>
          <p:nvPr/>
        </p:nvCxnSpPr>
        <p:spPr>
          <a:xfrm flipH="1" rot="16200000">
            <a:off x="1977480" y="4907880"/>
            <a:ext cx="524160" cy="772200"/>
          </a:xfrm>
          <a:prstGeom prst="curvedConnector5">
            <a:avLst>
              <a:gd name="adj1" fmla="val 49072"/>
              <a:gd name="adj2" fmla="val 50000"/>
              <a:gd name="adj3" fmla="val 49072"/>
            </a:avLst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46" name="曲線コネクタ 71"/>
          <p:cNvCxnSpPr/>
          <p:nvPr/>
        </p:nvCxnSpPr>
        <p:spPr>
          <a:xfrm flipH="1" flipV="1" rot="5400000">
            <a:off x="2206440" y="2946240"/>
            <a:ext cx="705240" cy="14101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47" name="曲線コネクタ 18"/>
          <p:cNvCxnSpPr/>
          <p:nvPr/>
        </p:nvCxnSpPr>
        <p:spPr>
          <a:xfrm>
            <a:off x="5006520" y="3298320"/>
            <a:ext cx="267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48" name="曲線コネクタ 20"/>
          <p:cNvCxnSpPr/>
          <p:nvPr/>
        </p:nvCxnSpPr>
        <p:spPr>
          <a:xfrm>
            <a:off x="6940440" y="3298320"/>
            <a:ext cx="6105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49" name="曲線コネクタ 74"/>
          <p:cNvCxnSpPr/>
          <p:nvPr/>
        </p:nvCxnSpPr>
        <p:spPr>
          <a:xfrm>
            <a:off x="3454560" y="6070320"/>
            <a:ext cx="343440" cy="19800"/>
          </a:xfrm>
          <a:prstGeom prst="curvedConnector5">
            <a:avLst>
              <a:gd name="adj1" fmla="val 47219"/>
              <a:gd name="adj2" fmla="val 50000"/>
              <a:gd name="adj3" fmla="val 47219"/>
            </a:avLst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50" name="曲線コネクタ 25"/>
          <p:cNvCxnSpPr/>
          <p:nvPr/>
        </p:nvCxnSpPr>
        <p:spPr>
          <a:xfrm>
            <a:off x="5464080" y="6089400"/>
            <a:ext cx="2865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51" name="曲線コネクタ 76"/>
          <p:cNvCxnSpPr/>
          <p:nvPr/>
        </p:nvCxnSpPr>
        <p:spPr>
          <a:xfrm flipV="1">
            <a:off x="7416720" y="6069960"/>
            <a:ext cx="448560" cy="19800"/>
          </a:xfrm>
          <a:prstGeom prst="curvedConnector5">
            <a:avLst>
              <a:gd name="adj1" fmla="val 48915"/>
              <a:gd name="adj2" fmla="val 50000"/>
              <a:gd name="adj3" fmla="val 48915"/>
            </a:avLst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52" name="図形 29"/>
          <p:cNvCxnSpPr/>
          <p:nvPr/>
        </p:nvCxnSpPr>
        <p:spPr>
          <a:xfrm flipV="1">
            <a:off x="9531360" y="5088960"/>
            <a:ext cx="1505520" cy="9817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53" name="図形 31"/>
          <p:cNvCxnSpPr/>
          <p:nvPr/>
        </p:nvCxnSpPr>
        <p:spPr>
          <a:xfrm>
            <a:off x="9750240" y="3298680"/>
            <a:ext cx="1286280" cy="1038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54" name="角丸四角形 79"/>
          <p:cNvSpPr/>
          <p:nvPr/>
        </p:nvSpPr>
        <p:spPr>
          <a:xfrm>
            <a:off x="5083200" y="1355760"/>
            <a:ext cx="3543120" cy="1085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いつも計画と実績の乖離が大き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進捗状況が見えな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急に大きな問題が発生す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超過・休日勤務が多い。疲弊してい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進捗が遅れているときの対処が適切でな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角丸四角形 80"/>
          <p:cNvSpPr/>
          <p:nvPr/>
        </p:nvSpPr>
        <p:spPr>
          <a:xfrm>
            <a:off x="2016000" y="7356600"/>
            <a:ext cx="3610080" cy="1104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設計が進まない（時間がかかる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レビューは実施してない・一部しかしていな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設計レビューで指摘事項が多数発生す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レビューで欠陥が発見できな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プロジェクトの途中で想定外の仕様変更が多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角丸四角形 81"/>
          <p:cNvSpPr/>
          <p:nvPr/>
        </p:nvSpPr>
        <p:spPr>
          <a:xfrm>
            <a:off x="1806480" y="1994040"/>
            <a:ext cx="2714760" cy="7236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見積りがずさ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最初から無理な計画になってい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計画の詳細が分からな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角丸四角形 82"/>
          <p:cNvSpPr/>
          <p:nvPr/>
        </p:nvSpPr>
        <p:spPr>
          <a:xfrm>
            <a:off x="8178840" y="6689880"/>
            <a:ext cx="4067280" cy="866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ストで使える期間・時間が足りなくな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スト時たくさんの設計や実装のバグが見つか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ストが不十分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スト件数、網羅度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スト環境が不十分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8" name="曲線コネクタ 83"/>
          <p:cNvCxnSpPr/>
          <p:nvPr/>
        </p:nvCxnSpPr>
        <p:spPr>
          <a:xfrm rot="5400000">
            <a:off x="2510640" y="3927240"/>
            <a:ext cx="1743840" cy="1515240"/>
          </a:xfrm>
          <a:prstGeom prst="curvedConnector5">
            <a:avLst>
              <a:gd name="adj1" fmla="val 49721"/>
              <a:gd name="adj2" fmla="val 50000"/>
              <a:gd name="adj3" fmla="val 49721"/>
            </a:avLst>
          </a:prstGeom>
          <a:ln w="28440">
            <a:solidFill>
              <a:srgbClr val="0000ff"/>
            </a:solidFill>
            <a:miter/>
            <a:headEnd len="lg" type="stealth" w="lg"/>
          </a:ln>
        </p:spPr>
      </p:cxnSp>
      <p:cxnSp>
        <p:nvCxnSpPr>
          <p:cNvPr id="159" name="曲線コネクタ 84"/>
          <p:cNvCxnSpPr/>
          <p:nvPr/>
        </p:nvCxnSpPr>
        <p:spPr>
          <a:xfrm rot="5400000">
            <a:off x="4491720" y="3955680"/>
            <a:ext cx="1762920" cy="1477080"/>
          </a:xfrm>
          <a:prstGeom prst="curvedConnector5">
            <a:avLst>
              <a:gd name="adj1" fmla="val 49714"/>
              <a:gd name="adj2" fmla="val 50000"/>
              <a:gd name="adj3" fmla="val 49714"/>
            </a:avLst>
          </a:prstGeom>
          <a:ln w="28440">
            <a:solidFill>
              <a:srgbClr val="0000ff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60" name="曲線コネクタ 85"/>
          <p:cNvCxnSpPr/>
          <p:nvPr/>
        </p:nvCxnSpPr>
        <p:spPr>
          <a:xfrm flipH="1" rot="16200000">
            <a:off x="5467680" y="4455720"/>
            <a:ext cx="1762920" cy="477000"/>
          </a:xfrm>
          <a:prstGeom prst="curvedConnector5">
            <a:avLst>
              <a:gd name="adj1" fmla="val 49714"/>
              <a:gd name="adj2" fmla="val 50000"/>
              <a:gd name="adj3" fmla="val 49714"/>
            </a:avLst>
          </a:prstGeom>
          <a:ln w="28440">
            <a:solidFill>
              <a:srgbClr val="0000ff"/>
            </a:solidFill>
            <a:miter/>
            <a:tailEnd len="lg" type="stealth" w="lg"/>
          </a:ln>
        </p:spPr>
      </p:cxnSp>
      <p:cxnSp>
        <p:nvCxnSpPr>
          <p:cNvPr id="161" name="曲線コネクタ 86"/>
          <p:cNvCxnSpPr/>
          <p:nvPr/>
        </p:nvCxnSpPr>
        <p:spPr>
          <a:xfrm flipH="1" rot="16200000">
            <a:off x="6534720" y="3389040"/>
            <a:ext cx="1743840" cy="2591640"/>
          </a:xfrm>
          <a:prstGeom prst="curvedConnector5">
            <a:avLst>
              <a:gd name="adj1" fmla="val 49721"/>
              <a:gd name="adj2" fmla="val 50000"/>
              <a:gd name="adj3" fmla="val 49721"/>
            </a:avLst>
          </a:prstGeom>
          <a:ln w="28440">
            <a:solidFill>
              <a:srgbClr val="0000ff"/>
            </a:solidFill>
            <a:miter/>
            <a:tailEnd len="lg" type="stealth" w="lg"/>
          </a:ln>
        </p:spPr>
      </p:cxnSp>
      <p:sp>
        <p:nvSpPr>
          <p:cNvPr id="162" name="角丸四角形 87"/>
          <p:cNvSpPr/>
          <p:nvPr/>
        </p:nvSpPr>
        <p:spPr>
          <a:xfrm>
            <a:off x="9464760" y="1784520"/>
            <a:ext cx="3152520" cy="1114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コスト超過することが多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納期遅延することが多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製品品質が悪いことが多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顧客のクレームが多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間違ったソフトウェアをリリースしてしま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角丸四角形 88"/>
          <p:cNvSpPr/>
          <p:nvPr/>
        </p:nvSpPr>
        <p:spPr>
          <a:xfrm>
            <a:off x="9807480" y="5280120"/>
            <a:ext cx="2562480" cy="914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納品後に障害が多発す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納品後にずるずると持ち出し工数が発生す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コストが超過す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角丸四角形 89"/>
          <p:cNvSpPr/>
          <p:nvPr/>
        </p:nvSpPr>
        <p:spPr>
          <a:xfrm>
            <a:off x="949320" y="6680160"/>
            <a:ext cx="2324160" cy="495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要求分析が不十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要件定義が不十分（不明確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角丸四角形 90"/>
          <p:cNvSpPr/>
          <p:nvPr/>
        </p:nvSpPr>
        <p:spPr>
          <a:xfrm>
            <a:off x="816120" y="2984400"/>
            <a:ext cx="2295360" cy="847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システム（製品）化目的が不明であ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要求事項に抜け・漏れ・矛盾がある（または、確定が遅い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31"/>
          <p:cNvSpPr/>
          <p:nvPr/>
        </p:nvSpPr>
        <p:spPr>
          <a:xfrm>
            <a:off x="1035000" y="1450800"/>
            <a:ext cx="242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開発のライフサイクル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32"/>
          <p:cNvSpPr/>
          <p:nvPr/>
        </p:nvSpPr>
        <p:spPr>
          <a:xfrm>
            <a:off x="1170000" y="1063800"/>
            <a:ext cx="1134720" cy="29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72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問題気づきシー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33"/>
          <p:cNvSpPr/>
          <p:nvPr/>
        </p:nvSpPr>
        <p:spPr>
          <a:xfrm>
            <a:off x="3083040" y="4098960"/>
            <a:ext cx="5600520" cy="561960"/>
          </a:xfrm>
          <a:prstGeom prst="ellipse">
            <a:avLst/>
          </a:prstGeom>
          <a:solidFill>
            <a:srgbClr val="ffffff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貫性の確保・</a:t>
            </a:r>
            <a:r>
              <a:rPr b="0" lang="ja-JP" sz="18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フィードバッ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角丸四角形 94"/>
          <p:cNvSpPr/>
          <p:nvPr/>
        </p:nvSpPr>
        <p:spPr>
          <a:xfrm>
            <a:off x="6140520" y="7632720"/>
            <a:ext cx="2971800" cy="895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実装の効率が悪い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がかかる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実装環境が整備されていな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実装不備が多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コードが読みにく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角丸四角形 95"/>
          <p:cNvSpPr/>
          <p:nvPr/>
        </p:nvSpPr>
        <p:spPr>
          <a:xfrm>
            <a:off x="4387680" y="4794120"/>
            <a:ext cx="3714840" cy="561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設計書を修正せずに、ソースコードを修正してい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□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変更に対する影響範囲が特定できな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36"/>
          <p:cNvSpPr/>
          <p:nvPr/>
        </p:nvSpPr>
        <p:spPr>
          <a:xfrm>
            <a:off x="1037160" y="4317840"/>
            <a:ext cx="200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1836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37"/>
          <p:cNvSpPr/>
          <p:nvPr/>
        </p:nvSpPr>
        <p:spPr>
          <a:xfrm>
            <a:off x="1827720" y="5956200"/>
            <a:ext cx="200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1836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38"/>
          <p:cNvSpPr/>
          <p:nvPr/>
        </p:nvSpPr>
        <p:spPr>
          <a:xfrm>
            <a:off x="3961080" y="5965920"/>
            <a:ext cx="200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1836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39"/>
          <p:cNvSpPr/>
          <p:nvPr/>
        </p:nvSpPr>
        <p:spPr>
          <a:xfrm>
            <a:off x="5932800" y="5918040"/>
            <a:ext cx="200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1836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④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40"/>
          <p:cNvSpPr/>
          <p:nvPr/>
        </p:nvSpPr>
        <p:spPr>
          <a:xfrm>
            <a:off x="7980840" y="5956200"/>
            <a:ext cx="200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1836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⑤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41"/>
          <p:cNvSpPr/>
          <p:nvPr/>
        </p:nvSpPr>
        <p:spPr>
          <a:xfrm>
            <a:off x="3580200" y="2984400"/>
            <a:ext cx="200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1836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42"/>
          <p:cNvSpPr/>
          <p:nvPr/>
        </p:nvSpPr>
        <p:spPr>
          <a:xfrm>
            <a:off x="5332680" y="3165480"/>
            <a:ext cx="200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1836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43"/>
          <p:cNvSpPr/>
          <p:nvPr/>
        </p:nvSpPr>
        <p:spPr>
          <a:xfrm>
            <a:off x="7637760" y="3127320"/>
            <a:ext cx="200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1836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44"/>
          <p:cNvSpPr/>
          <p:nvPr/>
        </p:nvSpPr>
        <p:spPr>
          <a:xfrm>
            <a:off x="10085760" y="4546440"/>
            <a:ext cx="200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1836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⑨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45"/>
          <p:cNvSpPr/>
          <p:nvPr/>
        </p:nvSpPr>
        <p:spPr>
          <a:xfrm>
            <a:off x="760680" y="2619360"/>
            <a:ext cx="200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1836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46"/>
          <p:cNvSpPr/>
          <p:nvPr/>
        </p:nvSpPr>
        <p:spPr>
          <a:xfrm>
            <a:off x="979920" y="6327720"/>
            <a:ext cx="200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1836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47"/>
          <p:cNvSpPr/>
          <p:nvPr/>
        </p:nvSpPr>
        <p:spPr>
          <a:xfrm>
            <a:off x="1637280" y="7356600"/>
            <a:ext cx="200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1836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48"/>
          <p:cNvSpPr/>
          <p:nvPr/>
        </p:nvSpPr>
        <p:spPr>
          <a:xfrm>
            <a:off x="5837760" y="7404120"/>
            <a:ext cx="200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1836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④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49"/>
          <p:cNvSpPr/>
          <p:nvPr/>
        </p:nvSpPr>
        <p:spPr>
          <a:xfrm>
            <a:off x="7828200" y="6680160"/>
            <a:ext cx="200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1836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⑤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1456200" y="1974960"/>
            <a:ext cx="200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1836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4713840" y="1384200"/>
            <a:ext cx="200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1836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9114120" y="1803240"/>
            <a:ext cx="200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1836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53"/>
          <p:cNvSpPr/>
          <p:nvPr/>
        </p:nvSpPr>
        <p:spPr>
          <a:xfrm>
            <a:off x="9533520" y="5060880"/>
            <a:ext cx="200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1836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⑨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54"/>
          <p:cNvSpPr/>
          <p:nvPr/>
        </p:nvSpPr>
        <p:spPr>
          <a:xfrm>
            <a:off x="3942000" y="4241880"/>
            <a:ext cx="200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1836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55"/>
          <p:cNvSpPr/>
          <p:nvPr/>
        </p:nvSpPr>
        <p:spPr>
          <a:xfrm>
            <a:off x="3980160" y="4794120"/>
            <a:ext cx="200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1836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57"/>
          <p:cNvSpPr/>
          <p:nvPr/>
        </p:nvSpPr>
        <p:spPr>
          <a:xfrm>
            <a:off x="4129200" y="8975880"/>
            <a:ext cx="4133880" cy="295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899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 IPA,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正方形/長方形 1"/>
          <p:cNvSpPr/>
          <p:nvPr/>
        </p:nvSpPr>
        <p:spPr>
          <a:xfrm>
            <a:off x="10832040" y="26352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13/3/15 Ver.2.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3"/>
          <p:cNvSpPr/>
          <p:nvPr/>
        </p:nvSpPr>
        <p:spPr>
          <a:xfrm>
            <a:off x="68400" y="58680"/>
            <a:ext cx="3012840" cy="170676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-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32"/>
          <p:cNvSpPr/>
          <p:nvPr/>
        </p:nvSpPr>
        <p:spPr>
          <a:xfrm>
            <a:off x="3240000" y="49320"/>
            <a:ext cx="3063960" cy="170640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3-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60"/>
          <p:cNvSpPr/>
          <p:nvPr/>
        </p:nvSpPr>
        <p:spPr>
          <a:xfrm>
            <a:off x="58680" y="3932280"/>
            <a:ext cx="3063960" cy="170820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2-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62"/>
          <p:cNvSpPr/>
          <p:nvPr/>
        </p:nvSpPr>
        <p:spPr>
          <a:xfrm>
            <a:off x="58680" y="5829480"/>
            <a:ext cx="3063960" cy="170784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2-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AutoShape 64"/>
          <p:cNvSpPr/>
          <p:nvPr/>
        </p:nvSpPr>
        <p:spPr>
          <a:xfrm>
            <a:off x="58680" y="7740720"/>
            <a:ext cx="3063960" cy="170640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3-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65"/>
          <p:cNvSpPr/>
          <p:nvPr/>
        </p:nvSpPr>
        <p:spPr>
          <a:xfrm>
            <a:off x="58680" y="2013120"/>
            <a:ext cx="3063960" cy="170784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-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66"/>
          <p:cNvSpPr/>
          <p:nvPr/>
        </p:nvSpPr>
        <p:spPr>
          <a:xfrm>
            <a:off x="9674280" y="3932280"/>
            <a:ext cx="3063960" cy="170820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6-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67"/>
          <p:cNvSpPr/>
          <p:nvPr/>
        </p:nvSpPr>
        <p:spPr>
          <a:xfrm>
            <a:off x="9674280" y="5829480"/>
            <a:ext cx="3063960" cy="170784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6-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68"/>
          <p:cNvSpPr/>
          <p:nvPr/>
        </p:nvSpPr>
        <p:spPr>
          <a:xfrm>
            <a:off x="9674280" y="7740720"/>
            <a:ext cx="3063960" cy="170640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6-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73"/>
          <p:cNvSpPr/>
          <p:nvPr/>
        </p:nvSpPr>
        <p:spPr>
          <a:xfrm>
            <a:off x="3240000" y="2013120"/>
            <a:ext cx="3063960" cy="170784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3-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74"/>
          <p:cNvSpPr/>
          <p:nvPr/>
        </p:nvSpPr>
        <p:spPr>
          <a:xfrm>
            <a:off x="3240000" y="3932280"/>
            <a:ext cx="3063960" cy="170820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3-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76"/>
          <p:cNvSpPr/>
          <p:nvPr/>
        </p:nvSpPr>
        <p:spPr>
          <a:xfrm>
            <a:off x="3240000" y="7740720"/>
            <a:ext cx="3063960" cy="170640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4-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77"/>
          <p:cNvSpPr/>
          <p:nvPr/>
        </p:nvSpPr>
        <p:spPr>
          <a:xfrm>
            <a:off x="6492960" y="49320"/>
            <a:ext cx="3063960" cy="170640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4-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79"/>
          <p:cNvSpPr/>
          <p:nvPr/>
        </p:nvSpPr>
        <p:spPr>
          <a:xfrm>
            <a:off x="6492960" y="2013120"/>
            <a:ext cx="3063960" cy="170784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4-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AutoShape 81"/>
          <p:cNvSpPr/>
          <p:nvPr/>
        </p:nvSpPr>
        <p:spPr>
          <a:xfrm>
            <a:off x="6492960" y="3932280"/>
            <a:ext cx="3063960" cy="170820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4-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AutoShape 83"/>
          <p:cNvSpPr/>
          <p:nvPr/>
        </p:nvSpPr>
        <p:spPr>
          <a:xfrm>
            <a:off x="6492960" y="5829480"/>
            <a:ext cx="3063960" cy="170784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5-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AutoShape 85"/>
          <p:cNvSpPr/>
          <p:nvPr/>
        </p:nvSpPr>
        <p:spPr>
          <a:xfrm>
            <a:off x="6492960" y="7740720"/>
            <a:ext cx="3063960" cy="170640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5-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AutoShape 87"/>
          <p:cNvSpPr/>
          <p:nvPr/>
        </p:nvSpPr>
        <p:spPr>
          <a:xfrm>
            <a:off x="9674280" y="49320"/>
            <a:ext cx="3063960" cy="170640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5-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AutoShape 90"/>
          <p:cNvSpPr/>
          <p:nvPr/>
        </p:nvSpPr>
        <p:spPr>
          <a:xfrm>
            <a:off x="9674280" y="2013120"/>
            <a:ext cx="3063960" cy="170784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5-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AutoShape 41"/>
          <p:cNvSpPr/>
          <p:nvPr/>
        </p:nvSpPr>
        <p:spPr>
          <a:xfrm>
            <a:off x="3240000" y="5829480"/>
            <a:ext cx="3063960" cy="170784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3-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正方形/長方形 22"/>
          <p:cNvSpPr/>
          <p:nvPr/>
        </p:nvSpPr>
        <p:spPr>
          <a:xfrm>
            <a:off x="58680" y="-4680"/>
            <a:ext cx="29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システム（製品）化目的が不明であ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正方形/長方形 23"/>
          <p:cNvSpPr/>
          <p:nvPr/>
        </p:nvSpPr>
        <p:spPr>
          <a:xfrm>
            <a:off x="63360" y="19209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要求事項に抜け・漏れ・矛盾がある（または、確定が遅い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正方形/長方形 24"/>
          <p:cNvSpPr/>
          <p:nvPr/>
        </p:nvSpPr>
        <p:spPr>
          <a:xfrm>
            <a:off x="58680" y="3895560"/>
            <a:ext cx="29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要求分析が不十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正方形/長方形 25"/>
          <p:cNvSpPr/>
          <p:nvPr/>
        </p:nvSpPr>
        <p:spPr>
          <a:xfrm>
            <a:off x="63360" y="5748480"/>
            <a:ext cx="29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要件定義が不十分（不明確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正方形/長方形 26"/>
          <p:cNvSpPr/>
          <p:nvPr/>
        </p:nvSpPr>
        <p:spPr>
          <a:xfrm>
            <a:off x="63360" y="7680240"/>
            <a:ext cx="29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設計が進まない（時間がかかる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正方形/長方形 27"/>
          <p:cNvSpPr/>
          <p:nvPr/>
        </p:nvSpPr>
        <p:spPr>
          <a:xfrm>
            <a:off x="3232080" y="1920960"/>
            <a:ext cx="298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設計レビューで指摘事項が多数発生す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正方形/長方形 28"/>
          <p:cNvSpPr/>
          <p:nvPr/>
        </p:nvSpPr>
        <p:spPr>
          <a:xfrm>
            <a:off x="3232080" y="-19080"/>
            <a:ext cx="29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レビューは実施してない・一部しかしていな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正方形/長方形 29"/>
          <p:cNvSpPr/>
          <p:nvPr/>
        </p:nvSpPr>
        <p:spPr>
          <a:xfrm>
            <a:off x="3200400" y="5737320"/>
            <a:ext cx="312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プロジェクトの途中で想定外の仕様変更が多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正方形/長方形 30"/>
          <p:cNvSpPr/>
          <p:nvPr/>
        </p:nvSpPr>
        <p:spPr>
          <a:xfrm>
            <a:off x="3240000" y="3863880"/>
            <a:ext cx="30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レビューで欠陥が発見できな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正方形/長方形 31"/>
          <p:cNvSpPr/>
          <p:nvPr/>
        </p:nvSpPr>
        <p:spPr>
          <a:xfrm>
            <a:off x="3206880" y="7680240"/>
            <a:ext cx="31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実装の効率が悪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時間がかか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正方形/長方形 32"/>
          <p:cNvSpPr/>
          <p:nvPr/>
        </p:nvSpPr>
        <p:spPr>
          <a:xfrm>
            <a:off x="6473880" y="-19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実装環境が整備されていな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正方形/長方形 33"/>
          <p:cNvSpPr/>
          <p:nvPr/>
        </p:nvSpPr>
        <p:spPr>
          <a:xfrm>
            <a:off x="6472080" y="195264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実装不備が多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正方形/長方形 34"/>
          <p:cNvSpPr/>
          <p:nvPr/>
        </p:nvSpPr>
        <p:spPr>
          <a:xfrm>
            <a:off x="6472080" y="76932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テスト時たくさんの設計や実装のバグが見つか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正方形/長方形 35"/>
          <p:cNvSpPr/>
          <p:nvPr/>
        </p:nvSpPr>
        <p:spPr>
          <a:xfrm>
            <a:off x="6472080" y="5748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テストで使える期間・時間が足りなくな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正方形/長方形 36"/>
          <p:cNvSpPr/>
          <p:nvPr/>
        </p:nvSpPr>
        <p:spPr>
          <a:xfrm>
            <a:off x="6492960" y="389556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コードが読みにく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正方形/長方形 37"/>
          <p:cNvSpPr/>
          <p:nvPr/>
        </p:nvSpPr>
        <p:spPr>
          <a:xfrm>
            <a:off x="9672480" y="3905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見積がずさ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正方形/長方形 38"/>
          <p:cNvSpPr/>
          <p:nvPr/>
        </p:nvSpPr>
        <p:spPr>
          <a:xfrm>
            <a:off x="9640800" y="270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テストが不十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テスト件数、網羅度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正方形/長方形 39"/>
          <p:cNvSpPr/>
          <p:nvPr/>
        </p:nvSpPr>
        <p:spPr>
          <a:xfrm>
            <a:off x="9655200" y="19699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テスト環境が不十分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正方形/長方形 40"/>
          <p:cNvSpPr/>
          <p:nvPr/>
        </p:nvSpPr>
        <p:spPr>
          <a:xfrm>
            <a:off x="9640800" y="5748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最初から無理な計画になってい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正方形/長方形 41"/>
          <p:cNvSpPr/>
          <p:nvPr/>
        </p:nvSpPr>
        <p:spPr>
          <a:xfrm>
            <a:off x="9640800" y="77119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計画の詳細が分からな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13"/>
          <p:cNvSpPr/>
          <p:nvPr/>
        </p:nvSpPr>
        <p:spPr>
          <a:xfrm>
            <a:off x="68400" y="58680"/>
            <a:ext cx="3012840" cy="170676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7-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AutoShape 32"/>
          <p:cNvSpPr/>
          <p:nvPr/>
        </p:nvSpPr>
        <p:spPr>
          <a:xfrm>
            <a:off x="3240000" y="49320"/>
            <a:ext cx="3063960" cy="170640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8-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AutoShape 60"/>
          <p:cNvSpPr/>
          <p:nvPr/>
        </p:nvSpPr>
        <p:spPr>
          <a:xfrm>
            <a:off x="58680" y="3932280"/>
            <a:ext cx="3063960" cy="170820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7-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AutoShape 62"/>
          <p:cNvSpPr/>
          <p:nvPr/>
        </p:nvSpPr>
        <p:spPr>
          <a:xfrm>
            <a:off x="58680" y="5829480"/>
            <a:ext cx="3063960" cy="170784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7-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AutoShape 64"/>
          <p:cNvSpPr/>
          <p:nvPr/>
        </p:nvSpPr>
        <p:spPr>
          <a:xfrm>
            <a:off x="58680" y="7740720"/>
            <a:ext cx="3063960" cy="170640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7-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AutoShape 65"/>
          <p:cNvSpPr/>
          <p:nvPr/>
        </p:nvSpPr>
        <p:spPr>
          <a:xfrm>
            <a:off x="58680" y="2013120"/>
            <a:ext cx="3063960" cy="170784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7-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AutoShape 66"/>
          <p:cNvSpPr/>
          <p:nvPr/>
        </p:nvSpPr>
        <p:spPr>
          <a:xfrm>
            <a:off x="9674280" y="3932280"/>
            <a:ext cx="3063960" cy="170820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AutoShape 67"/>
          <p:cNvSpPr/>
          <p:nvPr/>
        </p:nvSpPr>
        <p:spPr>
          <a:xfrm>
            <a:off x="9674280" y="5829480"/>
            <a:ext cx="3063960" cy="170784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utoShape 68"/>
          <p:cNvSpPr/>
          <p:nvPr/>
        </p:nvSpPr>
        <p:spPr>
          <a:xfrm>
            <a:off x="9674280" y="7740720"/>
            <a:ext cx="3063960" cy="170640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utoShape 73"/>
          <p:cNvSpPr/>
          <p:nvPr/>
        </p:nvSpPr>
        <p:spPr>
          <a:xfrm>
            <a:off x="3240000" y="2013120"/>
            <a:ext cx="3063960" cy="170784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8-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AutoShape 74"/>
          <p:cNvSpPr/>
          <p:nvPr/>
        </p:nvSpPr>
        <p:spPr>
          <a:xfrm>
            <a:off x="3240000" y="3944880"/>
            <a:ext cx="3063960" cy="170676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8-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AutoShape 76"/>
          <p:cNvSpPr/>
          <p:nvPr/>
        </p:nvSpPr>
        <p:spPr>
          <a:xfrm>
            <a:off x="3240000" y="7740720"/>
            <a:ext cx="3063960" cy="170640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8-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AutoShape 77"/>
          <p:cNvSpPr/>
          <p:nvPr/>
        </p:nvSpPr>
        <p:spPr>
          <a:xfrm>
            <a:off x="6492960" y="49320"/>
            <a:ext cx="3063960" cy="170640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9-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AutoShape 79"/>
          <p:cNvSpPr/>
          <p:nvPr/>
        </p:nvSpPr>
        <p:spPr>
          <a:xfrm>
            <a:off x="6492960" y="2013120"/>
            <a:ext cx="3063960" cy="170784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9-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AutoShape 81"/>
          <p:cNvSpPr/>
          <p:nvPr/>
        </p:nvSpPr>
        <p:spPr>
          <a:xfrm>
            <a:off x="6492960" y="3932280"/>
            <a:ext cx="3063960" cy="170820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9-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AutoShape 83"/>
          <p:cNvSpPr/>
          <p:nvPr/>
        </p:nvSpPr>
        <p:spPr>
          <a:xfrm>
            <a:off x="6492960" y="5829480"/>
            <a:ext cx="3063960" cy="170784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0-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AutoShape 85"/>
          <p:cNvSpPr/>
          <p:nvPr/>
        </p:nvSpPr>
        <p:spPr>
          <a:xfrm>
            <a:off x="6492960" y="7740720"/>
            <a:ext cx="3063960" cy="170640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0-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AutoShape 87"/>
          <p:cNvSpPr/>
          <p:nvPr/>
        </p:nvSpPr>
        <p:spPr>
          <a:xfrm>
            <a:off x="9674280" y="49320"/>
            <a:ext cx="3063960" cy="170640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AutoShape 90"/>
          <p:cNvSpPr/>
          <p:nvPr/>
        </p:nvSpPr>
        <p:spPr>
          <a:xfrm>
            <a:off x="9674280" y="2013120"/>
            <a:ext cx="3063960" cy="170784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AutoShape 41"/>
          <p:cNvSpPr/>
          <p:nvPr/>
        </p:nvSpPr>
        <p:spPr>
          <a:xfrm>
            <a:off x="3240000" y="5829480"/>
            <a:ext cx="3063960" cy="1707840"/>
          </a:xfrm>
          <a:prstGeom prst="roundRect">
            <a:avLst>
              <a:gd name="adj" fmla="val 4718"/>
            </a:avLst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18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8-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正方形/長方形 1"/>
          <p:cNvSpPr/>
          <p:nvPr/>
        </p:nvSpPr>
        <p:spPr>
          <a:xfrm>
            <a:off x="-4680" y="1952640"/>
            <a:ext cx="319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進捗状況が見えな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正方形/長方形 22"/>
          <p:cNvSpPr/>
          <p:nvPr/>
        </p:nvSpPr>
        <p:spPr>
          <a:xfrm>
            <a:off x="0" y="-205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いつも計画と実績の乖離が大き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正方形/長方形 23"/>
          <p:cNvSpPr/>
          <p:nvPr/>
        </p:nvSpPr>
        <p:spPr>
          <a:xfrm>
            <a:off x="-4680" y="3863880"/>
            <a:ext cx="319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急に大きな問題が発生す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正方形/長方形 24"/>
          <p:cNvSpPr/>
          <p:nvPr/>
        </p:nvSpPr>
        <p:spPr>
          <a:xfrm>
            <a:off x="63360" y="58086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超過・休日勤務が多い。疲弊してい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正方形/長方形 25"/>
          <p:cNvSpPr/>
          <p:nvPr/>
        </p:nvSpPr>
        <p:spPr>
          <a:xfrm>
            <a:off x="63360" y="77058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進捗が遅れているときの対処が適切でな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正方形/長方形 26"/>
          <p:cNvSpPr/>
          <p:nvPr/>
        </p:nvSpPr>
        <p:spPr>
          <a:xfrm>
            <a:off x="3200400" y="1951200"/>
            <a:ext cx="310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納期遅延することが多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正方形/長方形 27"/>
          <p:cNvSpPr/>
          <p:nvPr/>
        </p:nvSpPr>
        <p:spPr>
          <a:xfrm>
            <a:off x="3263760" y="6480"/>
            <a:ext cx="310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コスト超過することが多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正方形/長方形 28"/>
          <p:cNvSpPr/>
          <p:nvPr/>
        </p:nvSpPr>
        <p:spPr>
          <a:xfrm>
            <a:off x="3240000" y="3932280"/>
            <a:ext cx="310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製品品質が悪いことが多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正方形/長方形 29"/>
          <p:cNvSpPr/>
          <p:nvPr/>
        </p:nvSpPr>
        <p:spPr>
          <a:xfrm>
            <a:off x="3209760" y="5794200"/>
            <a:ext cx="310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顧客のクレームが多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正方形/長方形 30"/>
          <p:cNvSpPr/>
          <p:nvPr/>
        </p:nvSpPr>
        <p:spPr>
          <a:xfrm>
            <a:off x="3225960" y="7705800"/>
            <a:ext cx="310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間違ったソフトウェアをリリースしてしま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正方形/長方形 31"/>
          <p:cNvSpPr/>
          <p:nvPr/>
        </p:nvSpPr>
        <p:spPr>
          <a:xfrm>
            <a:off x="6472080" y="1920960"/>
            <a:ext cx="310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納品後にずるずると持ち出し工数が発生す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正方形/長方形 32"/>
          <p:cNvSpPr/>
          <p:nvPr/>
        </p:nvSpPr>
        <p:spPr>
          <a:xfrm>
            <a:off x="6492960" y="9360"/>
            <a:ext cx="31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納品後に障害が多発す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正方形/長方形 33"/>
          <p:cNvSpPr/>
          <p:nvPr/>
        </p:nvSpPr>
        <p:spPr>
          <a:xfrm>
            <a:off x="6535800" y="3914640"/>
            <a:ext cx="31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コストが超過す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正方形/長方形 34"/>
          <p:cNvSpPr/>
          <p:nvPr/>
        </p:nvSpPr>
        <p:spPr>
          <a:xfrm>
            <a:off x="6492960" y="5748480"/>
            <a:ext cx="31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設計書を修正せずに、ソースコードを修正してい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正方形/長方形 35"/>
          <p:cNvSpPr/>
          <p:nvPr/>
        </p:nvSpPr>
        <p:spPr>
          <a:xfrm>
            <a:off x="6472080" y="7680240"/>
            <a:ext cx="31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□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変更に対する影響範囲が特定できな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68" name=""/>
          <p:cNvCxnSpPr>
            <a:endCxn id="269" idx="0"/>
          </p:cNvCxnSpPr>
          <p:nvPr/>
        </p:nvCxnSpPr>
        <p:spPr>
          <a:xfrm flipH="1" rot="16200000">
            <a:off x="2520000" y="1641960"/>
            <a:ext cx="348480" cy="92880"/>
          </a:xfrm>
          <a:prstGeom prst="curvedConnector5">
            <a:avLst>
              <a:gd name="adj1" fmla="val 50051"/>
              <a:gd name="adj2" fmla="val 49805"/>
              <a:gd name="adj3" fmla="val 50051"/>
            </a:avLst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0" name=""/>
          <p:cNvCxnSpPr>
            <a:stCxn id="271" idx="2"/>
            <a:endCxn id="272" idx="0"/>
          </p:cNvCxnSpPr>
          <p:nvPr/>
        </p:nvCxnSpPr>
        <p:spPr>
          <a:xfrm rot="5400000">
            <a:off x="8697960" y="3139200"/>
            <a:ext cx="381600" cy="2262960"/>
          </a:xfrm>
          <a:prstGeom prst="curvedConnector5">
            <a:avLst>
              <a:gd name="adj1" fmla="val 49952"/>
              <a:gd name="adj2" fmla="val 49992"/>
              <a:gd name="adj3" fmla="val 49952"/>
            </a:avLst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3" name=""/>
          <p:cNvCxnSpPr>
            <a:stCxn id="274" idx="2"/>
            <a:endCxn id="272" idx="0"/>
          </p:cNvCxnSpPr>
          <p:nvPr/>
        </p:nvCxnSpPr>
        <p:spPr>
          <a:xfrm rot="5400000">
            <a:off x="7528680" y="3065040"/>
            <a:ext cx="1624680" cy="1167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5" name=""/>
          <p:cNvCxnSpPr>
            <a:stCxn id="276" idx="2"/>
            <a:endCxn id="277" idx="0"/>
          </p:cNvCxnSpPr>
          <p:nvPr/>
        </p:nvCxnSpPr>
        <p:spPr>
          <a:xfrm rot="5400000">
            <a:off x="7419240" y="7148160"/>
            <a:ext cx="299160" cy="6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8" name=""/>
          <p:cNvCxnSpPr>
            <a:stCxn id="279" idx="3"/>
            <a:endCxn id="276" idx="1"/>
          </p:cNvCxnSpPr>
          <p:nvPr/>
        </p:nvCxnSpPr>
        <p:spPr>
          <a:xfrm flipV="1">
            <a:off x="6351120" y="6544440"/>
            <a:ext cx="327960" cy="19580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0" name=""/>
          <p:cNvCxnSpPr>
            <a:stCxn id="281" idx="2"/>
            <a:endCxn id="282" idx="0"/>
          </p:cNvCxnSpPr>
          <p:nvPr/>
        </p:nvCxnSpPr>
        <p:spPr>
          <a:xfrm flipH="1" rot="16200000">
            <a:off x="9415440" y="6773400"/>
            <a:ext cx="486360" cy="32400"/>
          </a:xfrm>
          <a:prstGeom prst="curvedConnector5">
            <a:avLst>
              <a:gd name="adj1" fmla="val 50000"/>
              <a:gd name="adj2" fmla="val 49438"/>
              <a:gd name="adj3" fmla="val 50000"/>
            </a:avLst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3" name=""/>
          <p:cNvCxnSpPr>
            <a:stCxn id="284" idx="2"/>
            <a:endCxn id="272" idx="0"/>
          </p:cNvCxnSpPr>
          <p:nvPr/>
        </p:nvCxnSpPr>
        <p:spPr>
          <a:xfrm flipH="1" rot="16200000">
            <a:off x="6441840" y="3145320"/>
            <a:ext cx="1626120" cy="1005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5" name=""/>
          <p:cNvCxnSpPr>
            <a:stCxn id="286" idx="2"/>
            <a:endCxn id="287" idx="0"/>
          </p:cNvCxnSpPr>
          <p:nvPr/>
        </p:nvCxnSpPr>
        <p:spPr>
          <a:xfrm rot="5400000">
            <a:off x="10441800" y="7368840"/>
            <a:ext cx="486360" cy="15786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8" name=""/>
          <p:cNvCxnSpPr>
            <a:stCxn id="289" idx="2"/>
            <a:endCxn id="274" idx="0"/>
          </p:cNvCxnSpPr>
          <p:nvPr/>
        </p:nvCxnSpPr>
        <p:spPr>
          <a:xfrm rot="5400000">
            <a:off x="8776080" y="1679400"/>
            <a:ext cx="393120" cy="9756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0" name=""/>
          <p:cNvCxnSpPr>
            <a:stCxn id="269" idx="3"/>
            <a:endCxn id="291" idx="1"/>
          </p:cNvCxnSpPr>
          <p:nvPr/>
        </p:nvCxnSpPr>
        <p:spPr>
          <a:xfrm>
            <a:off x="3452760" y="2319480"/>
            <a:ext cx="426240" cy="2160"/>
          </a:xfrm>
          <a:prstGeom prst="curvedConnector5">
            <a:avLst>
              <a:gd name="adj1" fmla="val 49957"/>
              <a:gd name="adj2" fmla="val 40000"/>
              <a:gd name="adj3" fmla="val 49957"/>
            </a:avLst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2" name=""/>
          <p:cNvCxnSpPr>
            <a:stCxn id="293" idx="3"/>
            <a:endCxn id="279" idx="1"/>
          </p:cNvCxnSpPr>
          <p:nvPr/>
        </p:nvCxnSpPr>
        <p:spPr>
          <a:xfrm flipV="1">
            <a:off x="4143240" y="8502480"/>
            <a:ext cx="310320" cy="76680"/>
          </a:xfrm>
          <a:prstGeom prst="curvedConnector5">
            <a:avLst>
              <a:gd name="adj1" fmla="val 49941"/>
              <a:gd name="adj2" fmla="val 50000"/>
              <a:gd name="adj3" fmla="val 49941"/>
            </a:avLst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4" name=""/>
          <p:cNvCxnSpPr>
            <a:stCxn id="295" idx="2"/>
            <a:endCxn id="272" idx="1"/>
          </p:cNvCxnSpPr>
          <p:nvPr/>
        </p:nvCxnSpPr>
        <p:spPr>
          <a:xfrm flipH="1" rot="16200000">
            <a:off x="5227920" y="3231720"/>
            <a:ext cx="808920" cy="2561400"/>
          </a:xfrm>
          <a:prstGeom prst="curvedConnector2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6" name=""/>
          <p:cNvCxnSpPr>
            <a:stCxn id="297" idx="3"/>
            <a:endCxn id="298" idx="0"/>
          </p:cNvCxnSpPr>
          <p:nvPr/>
        </p:nvCxnSpPr>
        <p:spPr>
          <a:xfrm flipH="1">
            <a:off x="11775600" y="6134040"/>
            <a:ext cx="572400" cy="2269440"/>
          </a:xfrm>
          <a:prstGeom prst="curvedConnector5">
            <a:avLst>
              <a:gd name="adj1" fmla="val -57394"/>
              <a:gd name="adj2" fmla="val 43296"/>
              <a:gd name="adj3" fmla="val -57394"/>
            </a:avLst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9" name=""/>
          <p:cNvCxnSpPr>
            <a:stCxn id="300" idx="3"/>
            <a:endCxn id="301" idx="1"/>
          </p:cNvCxnSpPr>
          <p:nvPr/>
        </p:nvCxnSpPr>
        <p:spPr>
          <a:xfrm>
            <a:off x="4011120" y="5716440"/>
            <a:ext cx="173880" cy="7200"/>
          </a:xfrm>
          <a:prstGeom prst="curvedConnector5">
            <a:avLst>
              <a:gd name="adj1" fmla="val 50000"/>
              <a:gd name="adj2" fmla="val 47368"/>
              <a:gd name="adj3" fmla="val 50000"/>
            </a:avLst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2" name=""/>
          <p:cNvCxnSpPr>
            <a:stCxn id="303" idx="3"/>
            <a:endCxn id="304" idx="1"/>
          </p:cNvCxnSpPr>
          <p:nvPr/>
        </p:nvCxnSpPr>
        <p:spPr>
          <a:xfrm flipV="1">
            <a:off x="5481360" y="1075680"/>
            <a:ext cx="315000" cy="11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5" name=""/>
          <p:cNvCxnSpPr>
            <a:stCxn id="304" idx="2"/>
            <a:endCxn id="284" idx="0"/>
          </p:cNvCxnSpPr>
          <p:nvPr/>
        </p:nvCxnSpPr>
        <p:spPr>
          <a:xfrm flipH="1" rot="16200000">
            <a:off x="6507720" y="1676520"/>
            <a:ext cx="391320" cy="100800"/>
          </a:xfrm>
          <a:prstGeom prst="curvedConnector5">
            <a:avLst>
              <a:gd name="adj1" fmla="val 50000"/>
              <a:gd name="adj2" fmla="val 49820"/>
              <a:gd name="adj3" fmla="val 50000"/>
            </a:avLst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6" name=""/>
          <p:cNvCxnSpPr>
            <a:stCxn id="307" idx="3"/>
            <a:endCxn id="269" idx="1"/>
          </p:cNvCxnSpPr>
          <p:nvPr/>
        </p:nvCxnSpPr>
        <p:spPr>
          <a:xfrm>
            <a:off x="1641240" y="2319480"/>
            <a:ext cx="386280" cy="3600"/>
          </a:xfrm>
          <a:prstGeom prst="curvedConnector2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"/>
          <p:cNvCxnSpPr>
            <a:stCxn id="309" idx="3"/>
            <a:endCxn id="310" idx="1"/>
          </p:cNvCxnSpPr>
          <p:nvPr/>
        </p:nvCxnSpPr>
        <p:spPr>
          <a:xfrm flipV="1">
            <a:off x="1641240" y="1098000"/>
            <a:ext cx="370440" cy="35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7" name="角丸四角形 68"/>
          <p:cNvSpPr/>
          <p:nvPr/>
        </p:nvSpPr>
        <p:spPr>
          <a:xfrm>
            <a:off x="141120" y="1862280"/>
            <a:ext cx="1500480" cy="91260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要求分析が不十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角丸四角形 73"/>
          <p:cNvSpPr/>
          <p:nvPr/>
        </p:nvSpPr>
        <p:spPr>
          <a:xfrm>
            <a:off x="2027160" y="1862280"/>
            <a:ext cx="1425600" cy="91260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要件定義が不十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（不明確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角丸四角形 83"/>
          <p:cNvSpPr/>
          <p:nvPr/>
        </p:nvSpPr>
        <p:spPr>
          <a:xfrm>
            <a:off x="2011320" y="650880"/>
            <a:ext cx="1503360" cy="89856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要求事項に抜け・漏れ・矛盾があ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角丸四角形 84"/>
          <p:cNvSpPr/>
          <p:nvPr/>
        </p:nvSpPr>
        <p:spPr>
          <a:xfrm>
            <a:off x="141120" y="677880"/>
            <a:ext cx="1500480" cy="91296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システム化目的が不明であ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角丸四角形 94"/>
          <p:cNvSpPr/>
          <p:nvPr/>
        </p:nvSpPr>
        <p:spPr>
          <a:xfrm>
            <a:off x="3878280" y="1863720"/>
            <a:ext cx="1465200" cy="91296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設計が進まない（時間がかかる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角丸四角形 108"/>
          <p:cNvSpPr/>
          <p:nvPr/>
        </p:nvSpPr>
        <p:spPr>
          <a:xfrm>
            <a:off x="4510080" y="6546960"/>
            <a:ext cx="1689120" cy="93636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レビューは実施してない・一部しかしていな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角丸四角形 111"/>
          <p:cNvSpPr/>
          <p:nvPr/>
        </p:nvSpPr>
        <p:spPr>
          <a:xfrm>
            <a:off x="2643120" y="8078760"/>
            <a:ext cx="1500120" cy="100008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レビューで欠陥が発見できな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角丸四角形 114"/>
          <p:cNvSpPr/>
          <p:nvPr/>
        </p:nvSpPr>
        <p:spPr>
          <a:xfrm>
            <a:off x="3452760" y="3166920"/>
            <a:ext cx="1798560" cy="94140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設計レビューで指摘事項が多数発生す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角丸四角形 119"/>
          <p:cNvSpPr/>
          <p:nvPr/>
        </p:nvSpPr>
        <p:spPr>
          <a:xfrm>
            <a:off x="8221680" y="631800"/>
            <a:ext cx="1600200" cy="901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計画の詳細が分からな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角丸四角形 123"/>
          <p:cNvSpPr/>
          <p:nvPr/>
        </p:nvSpPr>
        <p:spPr>
          <a:xfrm>
            <a:off x="5796000" y="619200"/>
            <a:ext cx="1712880" cy="91260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HGP創英角ｺﾞｼｯｸUB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HGP創英角ｺﾞｼｯｸUB"/>
              </a:rPr>
              <a:t>最初から無理な計画になってい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角丸四角形 141"/>
          <p:cNvSpPr/>
          <p:nvPr/>
        </p:nvSpPr>
        <p:spPr>
          <a:xfrm>
            <a:off x="9194760" y="3165480"/>
            <a:ext cx="1652760" cy="91440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急に大きな問題が発生す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角丸四角形 145"/>
          <p:cNvSpPr/>
          <p:nvPr/>
        </p:nvSpPr>
        <p:spPr>
          <a:xfrm>
            <a:off x="6913440" y="4460760"/>
            <a:ext cx="1687680" cy="91296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超過・休日勤務が多い・疲弊してい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角丸四角形 151"/>
          <p:cNvSpPr/>
          <p:nvPr/>
        </p:nvSpPr>
        <p:spPr>
          <a:xfrm>
            <a:off x="7975440" y="1924200"/>
            <a:ext cx="1898640" cy="91260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進捗が遅れているときの対処が適切でな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角丸四角形 157"/>
          <p:cNvSpPr/>
          <p:nvPr/>
        </p:nvSpPr>
        <p:spPr>
          <a:xfrm>
            <a:off x="5996160" y="1922400"/>
            <a:ext cx="1512720" cy="91296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いつも計画と実績の乖離が大き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角丸四角形 162"/>
          <p:cNvSpPr/>
          <p:nvPr/>
        </p:nvSpPr>
        <p:spPr>
          <a:xfrm>
            <a:off x="6678720" y="6089760"/>
            <a:ext cx="1787400" cy="91260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テストで使える期間・時間が足りなくな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角丸四角形 169"/>
          <p:cNvSpPr/>
          <p:nvPr/>
        </p:nvSpPr>
        <p:spPr>
          <a:xfrm>
            <a:off x="4452840" y="8008920"/>
            <a:ext cx="1898640" cy="98748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テスト時たくさんの設計や実装のバグが見つか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角丸四角形 175"/>
          <p:cNvSpPr/>
          <p:nvPr/>
        </p:nvSpPr>
        <p:spPr>
          <a:xfrm>
            <a:off x="6665760" y="8400960"/>
            <a:ext cx="1557360" cy="81288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テスト環境が不十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角丸四角形 178"/>
          <p:cNvSpPr/>
          <p:nvPr/>
        </p:nvSpPr>
        <p:spPr>
          <a:xfrm>
            <a:off x="6665760" y="7300800"/>
            <a:ext cx="1800360" cy="91296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テストが不十分（件数・網羅度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角丸四角形 181"/>
          <p:cNvSpPr/>
          <p:nvPr/>
        </p:nvSpPr>
        <p:spPr>
          <a:xfrm>
            <a:off x="2554200" y="5261040"/>
            <a:ext cx="1457280" cy="91260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実装環境が整備されていな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角丸四角形 182"/>
          <p:cNvSpPr/>
          <p:nvPr/>
        </p:nvSpPr>
        <p:spPr>
          <a:xfrm>
            <a:off x="4184640" y="5267160"/>
            <a:ext cx="1424160" cy="91296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実装効率が悪い（時間がかかる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角丸四角形 185"/>
          <p:cNvSpPr/>
          <p:nvPr/>
        </p:nvSpPr>
        <p:spPr>
          <a:xfrm>
            <a:off x="10188720" y="1922400"/>
            <a:ext cx="1587240" cy="912960"/>
          </a:xfrm>
          <a:prstGeom prst="roundRect">
            <a:avLst>
              <a:gd name="adj" fmla="val 16667"/>
            </a:avLst>
          </a:prstGeom>
          <a:solidFill>
            <a:srgbClr val="e4e5ea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進捗状況が見えな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角丸四角形 187"/>
          <p:cNvSpPr/>
          <p:nvPr/>
        </p:nvSpPr>
        <p:spPr>
          <a:xfrm>
            <a:off x="695160" y="3187800"/>
            <a:ext cx="1670040" cy="92052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プロジェクトの途中で想定外の仕様変更が多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角丸四角形 188"/>
          <p:cNvSpPr/>
          <p:nvPr/>
        </p:nvSpPr>
        <p:spPr>
          <a:xfrm>
            <a:off x="8897760" y="5634000"/>
            <a:ext cx="1487520" cy="91296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製品品質が悪いことが多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角丸四角形 205"/>
          <p:cNvSpPr/>
          <p:nvPr/>
        </p:nvSpPr>
        <p:spPr>
          <a:xfrm>
            <a:off x="10769760" y="7004160"/>
            <a:ext cx="1409400" cy="91116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顧客からのクレームが多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角丸四角形 208"/>
          <p:cNvSpPr/>
          <p:nvPr/>
        </p:nvSpPr>
        <p:spPr>
          <a:xfrm>
            <a:off x="11115720" y="8402760"/>
            <a:ext cx="1320840" cy="91260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コストが超過す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角丸四角形 218"/>
          <p:cNvSpPr/>
          <p:nvPr/>
        </p:nvSpPr>
        <p:spPr>
          <a:xfrm>
            <a:off x="10982160" y="5676840"/>
            <a:ext cx="1365480" cy="91296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納期遅延することが多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5" name=""/>
          <p:cNvCxnSpPr>
            <a:stCxn id="281" idx="3"/>
            <a:endCxn id="297" idx="1"/>
          </p:cNvCxnSpPr>
          <p:nvPr/>
        </p:nvCxnSpPr>
        <p:spPr>
          <a:xfrm>
            <a:off x="10385280" y="6090840"/>
            <a:ext cx="597600" cy="43560"/>
          </a:xfrm>
          <a:prstGeom prst="curvedConnector5">
            <a:avLst>
              <a:gd name="adj1" fmla="val 50030"/>
              <a:gd name="adj2" fmla="val 50000"/>
              <a:gd name="adj3" fmla="val 50030"/>
            </a:avLst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6" name=""/>
          <p:cNvCxnSpPr>
            <a:stCxn id="277" idx="3"/>
            <a:endCxn id="281" idx="1"/>
          </p:cNvCxnSpPr>
          <p:nvPr/>
        </p:nvCxnSpPr>
        <p:spPr>
          <a:xfrm flipV="1">
            <a:off x="8465760" y="6089400"/>
            <a:ext cx="432360" cy="166752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7" name=""/>
          <p:cNvCxnSpPr>
            <a:stCxn id="312" idx="0"/>
            <a:endCxn id="277" idx="2"/>
          </p:cNvCxnSpPr>
          <p:nvPr/>
        </p:nvCxnSpPr>
        <p:spPr>
          <a:xfrm flipH="1" flipV="1" rot="5400000">
            <a:off x="7409880" y="8246520"/>
            <a:ext cx="187920" cy="121320"/>
          </a:xfrm>
          <a:prstGeom prst="curvedConnector5">
            <a:avLst>
              <a:gd name="adj1" fmla="val 49712"/>
              <a:gd name="adj2" fmla="val 50000"/>
              <a:gd name="adj3" fmla="val 49712"/>
            </a:avLst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8" name=""/>
          <p:cNvCxnSpPr>
            <a:stCxn id="289" idx="2"/>
            <a:endCxn id="313" idx="0"/>
          </p:cNvCxnSpPr>
          <p:nvPr/>
        </p:nvCxnSpPr>
        <p:spPr>
          <a:xfrm flipH="1" rot="16200000">
            <a:off x="9807480" y="747360"/>
            <a:ext cx="389520" cy="1961280"/>
          </a:xfrm>
          <a:prstGeom prst="curvedConnector5">
            <a:avLst>
              <a:gd name="adj1" fmla="val 49953"/>
              <a:gd name="adj2" fmla="val 49990"/>
              <a:gd name="adj3" fmla="val 49953"/>
            </a:avLst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9" name=""/>
          <p:cNvCxnSpPr>
            <a:stCxn id="269" idx="2"/>
            <a:endCxn id="314" idx="0"/>
          </p:cNvCxnSpPr>
          <p:nvPr/>
        </p:nvCxnSpPr>
        <p:spPr>
          <a:xfrm rot="5400000">
            <a:off x="1928160" y="2376360"/>
            <a:ext cx="413640" cy="1210320"/>
          </a:xfrm>
          <a:prstGeom prst="curvedConnector5">
            <a:avLst>
              <a:gd name="adj1" fmla="val 50000"/>
              <a:gd name="adj2" fmla="val 49985"/>
              <a:gd name="adj3" fmla="val 50000"/>
            </a:avLst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0" name=""/>
          <p:cNvCxnSpPr>
            <a:stCxn id="313" idx="2"/>
            <a:endCxn id="271" idx="0"/>
          </p:cNvCxnSpPr>
          <p:nvPr/>
        </p:nvCxnSpPr>
        <p:spPr>
          <a:xfrm rot="5400000">
            <a:off x="10335600" y="2519280"/>
            <a:ext cx="330840" cy="962640"/>
          </a:xfrm>
          <a:prstGeom prst="curvedConnector5">
            <a:avLst>
              <a:gd name="adj1" fmla="val 50000"/>
              <a:gd name="adj2" fmla="val 49981"/>
              <a:gd name="adj3" fmla="val 50000"/>
            </a:avLst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1" name=""/>
          <p:cNvCxnSpPr>
            <a:stCxn id="311" idx="2"/>
            <a:endCxn id="293" idx="0"/>
          </p:cNvCxnSpPr>
          <p:nvPr/>
        </p:nvCxnSpPr>
        <p:spPr>
          <a:xfrm rot="5400000">
            <a:off x="4075200" y="6800040"/>
            <a:ext cx="596160" cy="1962720"/>
          </a:xfrm>
          <a:prstGeom prst="curvedConnector5">
            <a:avLst>
              <a:gd name="adj1" fmla="val 49969"/>
              <a:gd name="adj2" fmla="val 49990"/>
              <a:gd name="adj3" fmla="val 49969"/>
            </a:avLst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2" name=""/>
          <p:cNvCxnSpPr>
            <a:stCxn id="269" idx="2"/>
            <a:endCxn id="295" idx="0"/>
          </p:cNvCxnSpPr>
          <p:nvPr/>
        </p:nvCxnSpPr>
        <p:spPr>
          <a:xfrm flipH="1" rot="16200000">
            <a:off x="3350160" y="2163960"/>
            <a:ext cx="391320" cy="1612080"/>
          </a:xfrm>
          <a:prstGeom prst="curvedConnector5">
            <a:avLst>
              <a:gd name="adj1" fmla="val 50000"/>
              <a:gd name="adj2" fmla="val 49988"/>
              <a:gd name="adj3" fmla="val 50000"/>
            </a:avLst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3" name=""/>
          <p:cNvCxnSpPr>
            <a:stCxn id="272" idx="2"/>
            <a:endCxn id="276" idx="0"/>
          </p:cNvCxnSpPr>
          <p:nvPr/>
        </p:nvCxnSpPr>
        <p:spPr>
          <a:xfrm rot="5400000">
            <a:off x="7306560" y="5638680"/>
            <a:ext cx="716760" cy="186480"/>
          </a:xfrm>
          <a:prstGeom prst="curvedConnector5">
            <a:avLst>
              <a:gd name="adj1" fmla="val 50000"/>
              <a:gd name="adj2" fmla="val 49903"/>
              <a:gd name="adj3" fmla="val 50000"/>
            </a:avLst>
          </a:prstGeom>
          <a:ln w="324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24" name=""/>
          <p:cNvCxnSpPr>
            <a:stCxn id="314" idx="2"/>
            <a:endCxn id="272" idx="1"/>
          </p:cNvCxnSpPr>
          <p:nvPr/>
        </p:nvCxnSpPr>
        <p:spPr>
          <a:xfrm flipH="1" rot="16200000">
            <a:off x="3816720" y="1820520"/>
            <a:ext cx="808920" cy="5383800"/>
          </a:xfrm>
          <a:prstGeom prst="curvedConnector2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5" name=""/>
          <p:cNvCxnSpPr>
            <a:stCxn id="272" idx="2"/>
            <a:endCxn id="311" idx="0"/>
          </p:cNvCxnSpPr>
          <p:nvPr/>
        </p:nvCxnSpPr>
        <p:spPr>
          <a:xfrm rot="5400000">
            <a:off x="5969160" y="4758480"/>
            <a:ext cx="1173960" cy="2404080"/>
          </a:xfrm>
          <a:prstGeom prst="curvedConnector5">
            <a:avLst>
              <a:gd name="adj1" fmla="val 56748"/>
              <a:gd name="adj2" fmla="val 49992"/>
              <a:gd name="adj3" fmla="val 56748"/>
            </a:avLst>
          </a:prstGeom>
          <a:ln w="324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26" name=""/>
          <p:cNvCxnSpPr>
            <a:stCxn id="295" idx="2"/>
            <a:endCxn id="276" idx="0"/>
          </p:cNvCxnSpPr>
          <p:nvPr/>
        </p:nvCxnSpPr>
        <p:spPr>
          <a:xfrm flipH="1" rot="16200000">
            <a:off x="4970160" y="3488400"/>
            <a:ext cx="1982160" cy="3221640"/>
          </a:xfrm>
          <a:prstGeom prst="curvedConnector5">
            <a:avLst>
              <a:gd name="adj1" fmla="val 55603"/>
              <a:gd name="adj2" fmla="val 50000"/>
              <a:gd name="adj3" fmla="val 55603"/>
            </a:avLst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7" name=""/>
          <p:cNvCxnSpPr>
            <a:stCxn id="282" idx="2"/>
            <a:endCxn id="287" idx="0"/>
          </p:cNvCxnSpPr>
          <p:nvPr/>
        </p:nvCxnSpPr>
        <p:spPr>
          <a:xfrm flipH="1" rot="16200000">
            <a:off x="9550080" y="8057160"/>
            <a:ext cx="469080" cy="222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8" name="テキスト ボックス 482"/>
          <p:cNvSpPr/>
          <p:nvPr/>
        </p:nvSpPr>
        <p:spPr>
          <a:xfrm>
            <a:off x="0" y="-9360"/>
            <a:ext cx="61992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9280" rIns="179280" tIns="89640" bIns="89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P創英角ｺﾞｼｯｸUB"/>
              </a:rPr>
              <a:t>問題分析絞り込みシート　（練習用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72"/>
          <p:cNvSpPr/>
          <p:nvPr/>
        </p:nvSpPr>
        <p:spPr>
          <a:xfrm>
            <a:off x="9021600" y="0"/>
            <a:ext cx="3780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9280" rIns="179280" tIns="89640" bIns="896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74"/>
          <p:cNvSpPr/>
          <p:nvPr/>
        </p:nvSpPr>
        <p:spPr>
          <a:xfrm>
            <a:off x="5796000" y="0"/>
            <a:ext cx="70056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9280" rIns="179280" tIns="89640" bIns="89640" anchor="t">
            <a:spAutoFit/>
          </a:bodyPr>
          <a:p>
            <a:pPr algn="r">
              <a:lnSpc>
                <a:spcPct val="60000"/>
              </a:lnSpc>
              <a:spcBef>
                <a:spcPts val="1188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900" spc="-1" strike="noStrike">
                <a:solidFill>
                  <a:srgbClr val="ff0000"/>
                </a:solidFill>
                <a:latin typeface="Calibri"/>
              </a:rPr>
              <a:t>（補足）</a:t>
            </a:r>
            <a:r>
              <a:rPr b="0" lang="en-US" sz="1900" spc="-1" strike="noStrike">
                <a:solidFill>
                  <a:srgbClr val="ff0000"/>
                </a:solidFill>
                <a:latin typeface="Calibri"/>
              </a:rPr>
              <a:t>A1</a:t>
            </a:r>
            <a:r>
              <a:rPr b="0" lang="ja-JP" sz="1900" spc="-1" strike="noStrike">
                <a:solidFill>
                  <a:srgbClr val="ff0000"/>
                </a:solidFill>
                <a:latin typeface="Calibri"/>
              </a:rPr>
              <a:t>サイズに拡大しての利用をお勧めします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60000"/>
              </a:lnSpc>
              <a:spcBef>
                <a:spcPts val="1188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alibri"/>
              </a:rPr>
              <a:t>※</a:t>
            </a:r>
            <a:r>
              <a:rPr b="0" lang="ja-JP" sz="1900" spc="-1" strike="noStrike">
                <a:solidFill>
                  <a:srgbClr val="ff0000"/>
                </a:solidFill>
                <a:latin typeface="Calibri"/>
              </a:rPr>
              <a:t>習熟してきたら白紙で行ってください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75"/>
          <p:cNvSpPr/>
          <p:nvPr/>
        </p:nvSpPr>
        <p:spPr>
          <a:xfrm>
            <a:off x="4183200" y="9218520"/>
            <a:ext cx="474156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9280" rIns="179280" tIns="89640" bIns="8964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Copyright © 201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 IPA, All Rights Reserv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角丸四角形 400"/>
          <p:cNvSpPr/>
          <p:nvPr/>
        </p:nvSpPr>
        <p:spPr>
          <a:xfrm>
            <a:off x="9023400" y="8402760"/>
            <a:ext cx="1747800" cy="90144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納品後にずるずると持ち出し工数が発生す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角丸四角形 400"/>
          <p:cNvSpPr/>
          <p:nvPr/>
        </p:nvSpPr>
        <p:spPr>
          <a:xfrm>
            <a:off x="368280" y="6137280"/>
            <a:ext cx="1973160" cy="90180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設計書を修正せずに、ソースコードを修正してい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角丸四角形 400"/>
          <p:cNvSpPr/>
          <p:nvPr/>
        </p:nvSpPr>
        <p:spPr>
          <a:xfrm>
            <a:off x="574560" y="5083200"/>
            <a:ext cx="1657440" cy="90000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変更に対する影響範囲が特定できな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角丸四角形 400"/>
          <p:cNvSpPr/>
          <p:nvPr/>
        </p:nvSpPr>
        <p:spPr>
          <a:xfrm>
            <a:off x="8924760" y="7032600"/>
            <a:ext cx="1500480" cy="90180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納品後に障害が多発す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角丸四角形 400"/>
          <p:cNvSpPr/>
          <p:nvPr/>
        </p:nvSpPr>
        <p:spPr>
          <a:xfrm>
            <a:off x="974880" y="8502480"/>
            <a:ext cx="1333440" cy="90036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コードが読みにく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角丸四角形 400"/>
          <p:cNvSpPr/>
          <p:nvPr/>
        </p:nvSpPr>
        <p:spPr>
          <a:xfrm>
            <a:off x="2674800" y="6581880"/>
            <a:ext cx="1428840" cy="90144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実装不備が多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角丸四角形 400"/>
          <p:cNvSpPr/>
          <p:nvPr/>
        </p:nvSpPr>
        <p:spPr>
          <a:xfrm>
            <a:off x="4184640" y="650880"/>
            <a:ext cx="1297080" cy="87300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見積がずさ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6" name=""/>
          <p:cNvCxnSpPr>
            <a:stCxn id="291" idx="3"/>
            <a:endCxn id="284" idx="1"/>
          </p:cNvCxnSpPr>
          <p:nvPr/>
        </p:nvCxnSpPr>
        <p:spPr>
          <a:xfrm>
            <a:off x="5343120" y="2320560"/>
            <a:ext cx="653400" cy="59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7" name=""/>
          <p:cNvCxnSpPr>
            <a:stCxn id="314" idx="2"/>
            <a:endCxn id="333" idx="0"/>
          </p:cNvCxnSpPr>
          <p:nvPr/>
        </p:nvCxnSpPr>
        <p:spPr>
          <a:xfrm rot="5400000">
            <a:off x="978480" y="4530600"/>
            <a:ext cx="975600" cy="127800"/>
          </a:xfrm>
          <a:prstGeom prst="curvedConnector5">
            <a:avLst>
              <a:gd name="adj1" fmla="val 50018"/>
              <a:gd name="adj2" fmla="val 50000"/>
              <a:gd name="adj3" fmla="val 500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"/>
          <p:cNvCxnSpPr/>
          <p:nvPr/>
        </p:nvCxnSpPr>
        <p:spPr>
          <a:xfrm rot="5400000">
            <a:off x="-290160" y="4758480"/>
            <a:ext cx="2477160" cy="1164240"/>
          </a:xfrm>
          <a:prstGeom prst="curvedConnector5">
            <a:avLst>
              <a:gd name="adj1" fmla="val 16569"/>
              <a:gd name="adj2" fmla="val 60222"/>
              <a:gd name="adj3" fmla="val 165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9" name=""/>
          <p:cNvCxnSpPr>
            <a:stCxn id="333" idx="3"/>
            <a:endCxn id="335" idx="1"/>
          </p:cNvCxnSpPr>
          <p:nvPr/>
        </p:nvCxnSpPr>
        <p:spPr>
          <a:xfrm>
            <a:off x="2232000" y="5532120"/>
            <a:ext cx="443520" cy="1500840"/>
          </a:xfrm>
          <a:prstGeom prst="curvedConnector5">
            <a:avLst>
              <a:gd name="adj1" fmla="val 50040"/>
              <a:gd name="adj2" fmla="val 50000"/>
              <a:gd name="adj3" fmla="val 500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2" idx="3"/>
            <a:endCxn id="335" idx="1"/>
          </p:cNvCxnSpPr>
          <p:nvPr/>
        </p:nvCxnSpPr>
        <p:spPr>
          <a:xfrm>
            <a:off x="2341440" y="6587640"/>
            <a:ext cx="334080" cy="445320"/>
          </a:xfrm>
          <a:prstGeom prst="curvedConnector5">
            <a:avLst>
              <a:gd name="adj1" fmla="val 49946"/>
              <a:gd name="adj2" fmla="val 50000"/>
              <a:gd name="adj3" fmla="val 4994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1" name=""/>
          <p:cNvCxnSpPr>
            <a:stCxn id="334" idx="3"/>
            <a:endCxn id="293" idx="1"/>
          </p:cNvCxnSpPr>
          <p:nvPr/>
        </p:nvCxnSpPr>
        <p:spPr>
          <a:xfrm flipV="1">
            <a:off x="2308320" y="8578080"/>
            <a:ext cx="335520" cy="375480"/>
          </a:xfrm>
          <a:prstGeom prst="curvedConnector5">
            <a:avLst>
              <a:gd name="adj1" fmla="val 49946"/>
              <a:gd name="adj2" fmla="val 50000"/>
              <a:gd name="adj3" fmla="val 4994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35" idx="2"/>
            <a:endCxn id="293" idx="0"/>
          </p:cNvCxnSpPr>
          <p:nvPr/>
        </p:nvCxnSpPr>
        <p:spPr>
          <a:xfrm flipH="1" rot="16200000">
            <a:off x="3093120" y="7778520"/>
            <a:ext cx="596160" cy="5400"/>
          </a:xfrm>
          <a:prstGeom prst="curvedConnector5">
            <a:avLst>
              <a:gd name="adj1" fmla="val 49969"/>
              <a:gd name="adj2" fmla="val 50000"/>
              <a:gd name="adj3" fmla="val 499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"/>
          <p:cNvCxnSpPr>
            <a:stCxn id="314" idx="2"/>
            <a:endCxn id="276" idx="0"/>
          </p:cNvCxnSpPr>
          <p:nvPr/>
        </p:nvCxnSpPr>
        <p:spPr>
          <a:xfrm flipH="1" rot="16200000">
            <a:off x="3558960" y="2077200"/>
            <a:ext cx="1983240" cy="6042600"/>
          </a:xfrm>
          <a:prstGeom prst="curvedConnector5">
            <a:avLst>
              <a:gd name="adj1" fmla="val 50018"/>
              <a:gd name="adj2" fmla="val 50000"/>
              <a:gd name="adj3" fmla="val 500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01" idx="2"/>
            <a:endCxn id="311" idx="0"/>
          </p:cNvCxnSpPr>
          <p:nvPr/>
        </p:nvCxnSpPr>
        <p:spPr>
          <a:xfrm flipH="1" rot="16200000">
            <a:off x="4941720" y="6133680"/>
            <a:ext cx="367560" cy="45936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角丸四角形 208"/>
          <p:cNvSpPr/>
          <p:nvPr/>
        </p:nvSpPr>
        <p:spPr>
          <a:xfrm>
            <a:off x="9212400" y="4460760"/>
            <a:ext cx="1557360" cy="91296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コスト超過することが多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6" name=""/>
          <p:cNvCxnSpPr>
            <a:stCxn id="272" idx="3"/>
            <a:endCxn id="345" idx="1"/>
          </p:cNvCxnSpPr>
          <p:nvPr/>
        </p:nvCxnSpPr>
        <p:spPr>
          <a:xfrm>
            <a:off x="8601120" y="4916520"/>
            <a:ext cx="612000" cy="2160"/>
          </a:xfrm>
          <a:prstGeom prst="curvedConnector5">
            <a:avLst>
              <a:gd name="adj1" fmla="val 50029"/>
              <a:gd name="adj2" fmla="val 40000"/>
              <a:gd name="adj3" fmla="val 500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281" idx="2"/>
            <a:endCxn id="286" idx="0"/>
          </p:cNvCxnSpPr>
          <p:nvPr/>
        </p:nvCxnSpPr>
        <p:spPr>
          <a:xfrm flipH="1" rot="16200000">
            <a:off x="10328040" y="5856840"/>
            <a:ext cx="457920" cy="1834200"/>
          </a:xfrm>
          <a:prstGeom prst="curvedConnector5">
            <a:avLst>
              <a:gd name="adj1" fmla="val 50039"/>
              <a:gd name="adj2" fmla="val 50000"/>
              <a:gd name="adj3" fmla="val 500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287" idx="3"/>
            <a:endCxn id="298" idx="1"/>
          </p:cNvCxnSpPr>
          <p:nvPr/>
        </p:nvCxnSpPr>
        <p:spPr>
          <a:xfrm>
            <a:off x="10770840" y="8853120"/>
            <a:ext cx="345240" cy="5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9" name="角丸四角形 400"/>
          <p:cNvSpPr/>
          <p:nvPr/>
        </p:nvSpPr>
        <p:spPr>
          <a:xfrm>
            <a:off x="611280" y="7338960"/>
            <a:ext cx="1697040" cy="90000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間違ったソフトウェアをリリースしてしま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0" name=""/>
          <p:cNvCxnSpPr>
            <a:stCxn id="332" idx="2"/>
            <a:endCxn id="349" idx="0"/>
          </p:cNvCxnSpPr>
          <p:nvPr/>
        </p:nvCxnSpPr>
        <p:spPr>
          <a:xfrm flipH="1" rot="16200000">
            <a:off x="1256400" y="7134480"/>
            <a:ext cx="300600" cy="105840"/>
          </a:xfrm>
          <a:prstGeom prst="curvedConnector5">
            <a:avLst>
              <a:gd name="adj1" fmla="val 50119"/>
              <a:gd name="adj2" fmla="val 49829"/>
              <a:gd name="adj3" fmla="val 501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1" name="角丸四角形 119"/>
          <p:cNvSpPr/>
          <p:nvPr/>
        </p:nvSpPr>
        <p:spPr>
          <a:xfrm>
            <a:off x="8221680" y="615960"/>
            <a:ext cx="1600200" cy="90180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計画の詳細が分からな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角丸四角形 185"/>
          <p:cNvSpPr/>
          <p:nvPr/>
        </p:nvSpPr>
        <p:spPr>
          <a:xfrm>
            <a:off x="10188720" y="1906560"/>
            <a:ext cx="1587240" cy="912960"/>
          </a:xfrm>
          <a:prstGeom prst="roundRect">
            <a:avLst>
              <a:gd name="adj" fmla="val 16667"/>
            </a:avLst>
          </a:prstGeom>
          <a:solidFill>
            <a:srgbClr val="e9edf0"/>
          </a:solidFill>
          <a:ln w="3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9640" rIns="17964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□</a:t>
            </a:r>
            <a:r>
              <a:rPr b="0" lang="ja-JP" sz="1400" spc="-1" strike="noStrike">
                <a:solidFill>
                  <a:srgbClr val="7f7f7f"/>
                </a:solidFill>
                <a:latin typeface="ＭＳ Ｐゴシック"/>
              </a:rPr>
              <a:t>進捗状況が見えな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円/楕円 2"/>
          <p:cNvSpPr/>
          <p:nvPr/>
        </p:nvSpPr>
        <p:spPr>
          <a:xfrm>
            <a:off x="1568520" y="4545000"/>
            <a:ext cx="1670040" cy="743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4" name="曲線コネクタ 3"/>
          <p:cNvCxnSpPr/>
          <p:nvPr/>
        </p:nvCxnSpPr>
        <p:spPr>
          <a:xfrm flipH="1" rot="16200000">
            <a:off x="2414520" y="5280120"/>
            <a:ext cx="496080" cy="5144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355" name="曲線コネクタ 4"/>
          <p:cNvCxnSpPr/>
          <p:nvPr/>
        </p:nvCxnSpPr>
        <p:spPr>
          <a:xfrm flipH="1" flipV="1" rot="5400000">
            <a:off x="2691360" y="3907800"/>
            <a:ext cx="346680" cy="9277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356" name="曲線コネクタ 18"/>
          <p:cNvCxnSpPr/>
          <p:nvPr/>
        </p:nvCxnSpPr>
        <p:spPr>
          <a:xfrm>
            <a:off x="5090760" y="4199040"/>
            <a:ext cx="438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357" name="曲線コネクタ 20"/>
          <p:cNvCxnSpPr/>
          <p:nvPr/>
        </p:nvCxnSpPr>
        <p:spPr>
          <a:xfrm flipV="1">
            <a:off x="7062840" y="4198680"/>
            <a:ext cx="5832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358" name="曲線コネクタ 7"/>
          <p:cNvCxnSpPr/>
          <p:nvPr/>
        </p:nvCxnSpPr>
        <p:spPr>
          <a:xfrm>
            <a:off x="4557600" y="5784480"/>
            <a:ext cx="496080" cy="29160"/>
          </a:xfrm>
          <a:prstGeom prst="curvedConnector5">
            <a:avLst>
              <a:gd name="adj1" fmla="val 49963"/>
              <a:gd name="adj2" fmla="val 50000"/>
              <a:gd name="adj3" fmla="val 49963"/>
            </a:avLst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359" name="曲線コネクタ 25"/>
          <p:cNvCxnSpPr/>
          <p:nvPr/>
        </p:nvCxnSpPr>
        <p:spPr>
          <a:xfrm flipV="1">
            <a:off x="6215040" y="5812560"/>
            <a:ext cx="658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360" name="曲線コネクタ 9"/>
          <p:cNvCxnSpPr/>
          <p:nvPr/>
        </p:nvCxnSpPr>
        <p:spPr>
          <a:xfrm>
            <a:off x="8082000" y="5812920"/>
            <a:ext cx="381600" cy="10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361" name="図形 29"/>
          <p:cNvCxnSpPr/>
          <p:nvPr/>
        </p:nvCxnSpPr>
        <p:spPr>
          <a:xfrm flipV="1">
            <a:off x="9658080" y="5219280"/>
            <a:ext cx="407160" cy="597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362" name="図形 31"/>
          <p:cNvCxnSpPr/>
          <p:nvPr/>
        </p:nvCxnSpPr>
        <p:spPr>
          <a:xfrm>
            <a:off x="9556560" y="4199040"/>
            <a:ext cx="508680" cy="3722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363" name="曲線コネクタ 12"/>
          <p:cNvCxnSpPr/>
          <p:nvPr/>
        </p:nvCxnSpPr>
        <p:spPr>
          <a:xfrm rot="5400000">
            <a:off x="3522240" y="4736880"/>
            <a:ext cx="897480" cy="478800"/>
          </a:xfrm>
          <a:prstGeom prst="curvedConnector5">
            <a:avLst>
              <a:gd name="adj1" fmla="val 50000"/>
              <a:gd name="adj2" fmla="val 49962"/>
              <a:gd name="adj3" fmla="val 50000"/>
            </a:avLst>
          </a:prstGeom>
          <a:ln w="28440">
            <a:solidFill>
              <a:srgbClr val="0000ff"/>
            </a:solidFill>
            <a:miter/>
            <a:headEnd len="lg" type="stealth" w="lg"/>
          </a:ln>
        </p:spPr>
      </p:cxnSp>
      <p:cxnSp>
        <p:nvCxnSpPr>
          <p:cNvPr id="364" name="曲線コネクタ 13"/>
          <p:cNvCxnSpPr/>
          <p:nvPr/>
        </p:nvCxnSpPr>
        <p:spPr>
          <a:xfrm rot="5400000">
            <a:off x="5456160" y="4682160"/>
            <a:ext cx="1007280" cy="66924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28440">
            <a:solidFill>
              <a:srgbClr val="0000ff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365" name="曲線コネクタ 14"/>
          <p:cNvCxnSpPr/>
          <p:nvPr/>
        </p:nvCxnSpPr>
        <p:spPr>
          <a:xfrm flipH="1" rot="16200000">
            <a:off x="6373800" y="4433040"/>
            <a:ext cx="1016640" cy="117684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28440">
            <a:solidFill>
              <a:srgbClr val="0000ff"/>
            </a:solidFill>
            <a:miter/>
            <a:tailEnd len="lg" type="stealth" w="lg"/>
          </a:ln>
        </p:spPr>
      </p:cxnSp>
      <p:cxnSp>
        <p:nvCxnSpPr>
          <p:cNvPr id="366" name="曲線コネクタ 15"/>
          <p:cNvCxnSpPr/>
          <p:nvPr/>
        </p:nvCxnSpPr>
        <p:spPr>
          <a:xfrm flipH="1" rot="16200000">
            <a:off x="7156440" y="3650400"/>
            <a:ext cx="1038600" cy="27644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00ff"/>
            </a:solidFill>
            <a:miter/>
            <a:tailEnd len="lg" type="stealth" w="lg"/>
          </a:ln>
        </p:spPr>
      </p:cxnSp>
      <p:sp>
        <p:nvSpPr>
          <p:cNvPr id="367" name="Text Box 31"/>
          <p:cNvSpPr/>
          <p:nvPr/>
        </p:nvSpPr>
        <p:spPr>
          <a:xfrm>
            <a:off x="1022400" y="1492200"/>
            <a:ext cx="2422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開発のライフサイクル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32"/>
          <p:cNvSpPr/>
          <p:nvPr/>
        </p:nvSpPr>
        <p:spPr>
          <a:xfrm>
            <a:off x="1286640" y="1069920"/>
            <a:ext cx="1546200" cy="29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720" rIns="0" tIns="2304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改善検討業務選択シー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Oval 33"/>
          <p:cNvSpPr/>
          <p:nvPr/>
        </p:nvSpPr>
        <p:spPr>
          <a:xfrm>
            <a:off x="3436920" y="4719600"/>
            <a:ext cx="5619600" cy="554040"/>
          </a:xfrm>
          <a:prstGeom prst="ellipse">
            <a:avLst/>
          </a:prstGeom>
          <a:solidFill>
            <a:srgbClr val="ffffff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⑩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一貫性の確保・</a:t>
            </a:r>
            <a:r>
              <a:rPr b="0" lang="ja-JP" sz="1800" spc="-1" strike="noStrike">
                <a:solidFill>
                  <a:srgbClr val="0000ff"/>
                </a:solidFill>
                <a:latin typeface="ＭＳ Ｐゴシック"/>
              </a:rPr>
              <a:t>フィードバッ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 Box 36"/>
          <p:cNvSpPr/>
          <p:nvPr/>
        </p:nvSpPr>
        <p:spPr>
          <a:xfrm>
            <a:off x="1562040" y="4749840"/>
            <a:ext cx="2890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1836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57"/>
          <p:cNvSpPr/>
          <p:nvPr/>
        </p:nvSpPr>
        <p:spPr>
          <a:xfrm>
            <a:off x="6362640" y="8950320"/>
            <a:ext cx="3770280" cy="27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 IPA,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2" name="グループ化 21"/>
          <p:cNvGrpSpPr/>
          <p:nvPr/>
        </p:nvGrpSpPr>
        <p:grpSpPr>
          <a:xfrm>
            <a:off x="9396360" y="4551480"/>
            <a:ext cx="1596960" cy="714240"/>
            <a:chOff x="9396360" y="4551480"/>
            <a:chExt cx="1596960" cy="714240"/>
          </a:xfrm>
        </p:grpSpPr>
        <p:sp>
          <p:nvSpPr>
            <p:cNvPr id="373" name="円/楕円 22"/>
            <p:cNvSpPr/>
            <p:nvPr/>
          </p:nvSpPr>
          <p:spPr>
            <a:xfrm>
              <a:off x="9396360" y="4551480"/>
              <a:ext cx="1596960" cy="714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Text Box 44"/>
            <p:cNvSpPr/>
            <p:nvPr/>
          </p:nvSpPr>
          <p:spPr>
            <a:xfrm>
              <a:off x="9465840" y="4756320"/>
              <a:ext cx="20952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1836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⑨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テキスト ボックス 43"/>
            <p:cNvSpPr/>
            <p:nvPr/>
          </p:nvSpPr>
          <p:spPr>
            <a:xfrm>
              <a:off x="9882000" y="47037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納品後対応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6" name="円/楕円 25"/>
          <p:cNvSpPr/>
          <p:nvPr/>
        </p:nvSpPr>
        <p:spPr>
          <a:xfrm>
            <a:off x="2911320" y="5424480"/>
            <a:ext cx="1643040" cy="728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37"/>
          <p:cNvSpPr/>
          <p:nvPr/>
        </p:nvSpPr>
        <p:spPr>
          <a:xfrm>
            <a:off x="2990880" y="5618160"/>
            <a:ext cx="2635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1836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テキスト ボックス 46"/>
          <p:cNvSpPr/>
          <p:nvPr/>
        </p:nvSpPr>
        <p:spPr>
          <a:xfrm>
            <a:off x="3271680" y="5494320"/>
            <a:ext cx="11131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ts val="1899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要求分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要件定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円/楕円 28"/>
          <p:cNvSpPr/>
          <p:nvPr/>
        </p:nvSpPr>
        <p:spPr>
          <a:xfrm>
            <a:off x="7645320" y="3857760"/>
            <a:ext cx="1911600" cy="684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 Box 43"/>
          <p:cNvSpPr/>
          <p:nvPr/>
        </p:nvSpPr>
        <p:spPr>
          <a:xfrm>
            <a:off x="7696080" y="3973680"/>
            <a:ext cx="262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1836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テキスト ボックス 49"/>
          <p:cNvSpPr/>
          <p:nvPr/>
        </p:nvSpPr>
        <p:spPr>
          <a:xfrm>
            <a:off x="7861320" y="3808440"/>
            <a:ext cx="14320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工程完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リリース管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2" name="グループ化 31"/>
          <p:cNvGrpSpPr/>
          <p:nvPr/>
        </p:nvGrpSpPr>
        <p:grpSpPr>
          <a:xfrm>
            <a:off x="2243160" y="2333520"/>
            <a:ext cx="2735280" cy="2208240"/>
            <a:chOff x="2243160" y="2333520"/>
            <a:chExt cx="2735280" cy="2208240"/>
          </a:xfrm>
        </p:grpSpPr>
        <p:sp>
          <p:nvSpPr>
            <p:cNvPr id="383" name="円/楕円 32"/>
            <p:cNvSpPr/>
            <p:nvPr/>
          </p:nvSpPr>
          <p:spPr>
            <a:xfrm>
              <a:off x="3394080" y="3870360"/>
              <a:ext cx="1584360" cy="631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Text Box 41"/>
            <p:cNvSpPr/>
            <p:nvPr/>
          </p:nvSpPr>
          <p:spPr>
            <a:xfrm>
              <a:off x="2243160" y="2333520"/>
              <a:ext cx="231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1836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⑥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テキスト ボックス 53"/>
            <p:cNvSpPr/>
            <p:nvPr/>
          </p:nvSpPr>
          <p:spPr>
            <a:xfrm>
              <a:off x="3706920" y="3900600"/>
              <a:ext cx="1001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見積り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ts val="1899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計画立案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テキスト ボックス 54"/>
          <p:cNvSpPr/>
          <p:nvPr/>
        </p:nvSpPr>
        <p:spPr>
          <a:xfrm>
            <a:off x="2028600" y="462456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要求抽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要求管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7" name="グループ化 36"/>
          <p:cNvGrpSpPr/>
          <p:nvPr/>
        </p:nvGrpSpPr>
        <p:grpSpPr>
          <a:xfrm>
            <a:off x="5556240" y="3832200"/>
            <a:ext cx="1467000" cy="681120"/>
            <a:chOff x="5556240" y="3832200"/>
            <a:chExt cx="1467000" cy="681120"/>
          </a:xfrm>
        </p:grpSpPr>
        <p:sp>
          <p:nvSpPr>
            <p:cNvPr id="388" name="円/楕円 37"/>
            <p:cNvSpPr/>
            <p:nvPr/>
          </p:nvSpPr>
          <p:spPr>
            <a:xfrm>
              <a:off x="5556240" y="3832200"/>
              <a:ext cx="1467000" cy="681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ts val="1998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Text Box 42"/>
            <p:cNvSpPr/>
            <p:nvPr/>
          </p:nvSpPr>
          <p:spPr>
            <a:xfrm>
              <a:off x="5612400" y="4013280"/>
              <a:ext cx="20952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0" tIns="1836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⑦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テキスト ボックス 58"/>
            <p:cNvSpPr/>
            <p:nvPr/>
          </p:nvSpPr>
          <p:spPr>
            <a:xfrm>
              <a:off x="5998680" y="39830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進捗管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円/楕円 40"/>
          <p:cNvSpPr/>
          <p:nvPr/>
        </p:nvSpPr>
        <p:spPr>
          <a:xfrm>
            <a:off x="5043600" y="5519880"/>
            <a:ext cx="1164960" cy="591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テキスト ボックス 60"/>
          <p:cNvSpPr/>
          <p:nvPr/>
        </p:nvSpPr>
        <p:spPr>
          <a:xfrm>
            <a:off x="5103720" y="5611680"/>
            <a:ext cx="957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設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円/楕円 42"/>
          <p:cNvSpPr/>
          <p:nvPr/>
        </p:nvSpPr>
        <p:spPr>
          <a:xfrm>
            <a:off x="8458200" y="5553000"/>
            <a:ext cx="1200240" cy="527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テキスト ボックス 62"/>
          <p:cNvSpPr/>
          <p:nvPr/>
        </p:nvSpPr>
        <p:spPr>
          <a:xfrm>
            <a:off x="8470800" y="5611680"/>
            <a:ext cx="1086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円/楕円 44"/>
          <p:cNvSpPr/>
          <p:nvPr/>
        </p:nvSpPr>
        <p:spPr>
          <a:xfrm>
            <a:off x="6861240" y="5529240"/>
            <a:ext cx="1220760" cy="563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テキスト ボックス 64"/>
          <p:cNvSpPr/>
          <p:nvPr/>
        </p:nvSpPr>
        <p:spPr>
          <a:xfrm>
            <a:off x="6946920" y="5611680"/>
            <a:ext cx="9921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実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テキスト ボックス 65"/>
          <p:cNvSpPr/>
          <p:nvPr/>
        </p:nvSpPr>
        <p:spPr>
          <a:xfrm>
            <a:off x="1042920" y="6442200"/>
            <a:ext cx="1498680" cy="1617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1" lang="ja-JP" sz="1000" spc="-1" strike="noStrike">
                <a:solidFill>
                  <a:srgbClr val="000000"/>
                </a:solidFill>
                <a:latin typeface="Calibri"/>
              </a:rPr>
              <a:t>要求分析が不十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S5-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妥当性確認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実施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JRev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共同レビュー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b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要件定義が不十分（不明確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1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顧客ニーズ抽出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2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システム要件のまとめ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TM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一貫性確保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S5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妥当性確認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計画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S5-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妥当性確認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実施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JRev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共同レビュー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S1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標準文書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テキスト ボックス 66"/>
          <p:cNvSpPr/>
          <p:nvPr/>
        </p:nvSpPr>
        <p:spPr>
          <a:xfrm>
            <a:off x="728640" y="2682720"/>
            <a:ext cx="1865160" cy="803880"/>
          </a:xfrm>
          <a:prstGeom prst="rect">
            <a:avLst/>
          </a:prstGeom>
          <a:noFill/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a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システム（製品）化目的が不明確であ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1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顧客ニーズ抽出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2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システム要件のまとめ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b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要求事項に抜け・漏れ・矛盾がある（または、確定が遅い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1-1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（顧客ニーズ抽出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S1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標準文書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直線コネクタ 48"/>
          <p:cNvSpPr/>
          <p:nvPr/>
        </p:nvSpPr>
        <p:spPr>
          <a:xfrm flipH="1">
            <a:off x="1779120" y="6046920"/>
            <a:ext cx="1373400" cy="385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直線コネクタ 49"/>
          <p:cNvSpPr/>
          <p:nvPr/>
        </p:nvSpPr>
        <p:spPr>
          <a:xfrm flipH="1" flipV="1">
            <a:off x="1661760" y="3736440"/>
            <a:ext cx="150840" cy="9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テキスト ボックス 69"/>
          <p:cNvSpPr/>
          <p:nvPr/>
        </p:nvSpPr>
        <p:spPr>
          <a:xfrm>
            <a:off x="2928960" y="6159600"/>
            <a:ext cx="3560760" cy="2363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a)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設計が進まない（時間がかかる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3-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システムアーキテクチャ設計レビュー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4-1(SW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要件定義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4-2(SW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要件レビュー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b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レビューは実施してない・一部しかしていない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JRev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共同レビュー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S4-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成果物レビューとテスト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2-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システム要件レビュー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3-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システムアーキテクチャ設計レビュー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5-2(SW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設計レビュー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c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設計レビューで指摘事項が多数発生す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JRev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共同レビュー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3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システムアーキテクチャ設計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5-1(SW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設計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5-3(SW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詳細設計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d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レビューで欠陥が発見できない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JRev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共同レビュー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S4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検証計画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S4-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成果物レビューとテスト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e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プロジェクトの途中で想定外の仕様変更が多い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1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顧客ニーズ抽出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1-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顧客ニーズ変化獲得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2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システム要件のまとめ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TM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一貫性確保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S1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標準文書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S1-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文書化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S5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妥当性確認計画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S5-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妥当性確認実施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テキスト ボックス 70"/>
          <p:cNvSpPr/>
          <p:nvPr/>
        </p:nvSpPr>
        <p:spPr>
          <a:xfrm>
            <a:off x="7274160" y="6654960"/>
            <a:ext cx="1978920" cy="1877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a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実装の効率が悪い</a:t>
            </a: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時間がかかる</a:t>
            </a: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6-1(SW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ユニット実装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3-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システムアーキテクチャ設計レビュー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5-2(SW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設計レビュー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b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実装環境が整備されていない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Test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テスト戦略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c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実装不備が多い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5-3(SW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詳細設計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6-1(SW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ユニット実装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6-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コードレビュー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d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コードが読みにくい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6-1(SW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ユニット実装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6-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コードレビュー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テキスト ボックス 71"/>
          <p:cNvSpPr/>
          <p:nvPr/>
        </p:nvSpPr>
        <p:spPr>
          <a:xfrm>
            <a:off x="9879120" y="6948360"/>
            <a:ext cx="2193840" cy="1757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a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テストで使える期間・時間が足りなくな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Test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テスト戦略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b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テスト時たくさんの設計や実装のバグが見つか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JRev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共同レビュー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3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システムアーキテクチャ設計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6-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コードレビュー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c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テストが不十分</a:t>
            </a: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テスト件数、網羅度</a:t>
            </a: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7.38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SW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結合テスト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9.31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システム結合テスト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Test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テスト戦略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d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テスト環境が不十分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Test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テスト戦略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テキスト ボックス 72"/>
          <p:cNvSpPr/>
          <p:nvPr/>
        </p:nvSpPr>
        <p:spPr>
          <a:xfrm>
            <a:off x="2824200" y="1933560"/>
            <a:ext cx="1573200" cy="981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a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見積がずさん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P-0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規模の見積り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b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最初から無理な計画になってい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P-0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計画立案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P-03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リスク計画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c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計画の詳細が分からない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P-0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計画立案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テキスト ボックス 73"/>
          <p:cNvSpPr/>
          <p:nvPr/>
        </p:nvSpPr>
        <p:spPr>
          <a:xfrm>
            <a:off x="4510080" y="1085760"/>
            <a:ext cx="2181240" cy="2248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a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いつも計画と実績の乖離が大きい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P-0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規模の見積り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P-0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計画立案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b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進捗状況が見えない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MC-0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プロジェクト進捗管理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S3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品質保証計画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S3-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品質保証活動実施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c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急に大きな問題が発生す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P-03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リスク計画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MC-03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リスク管理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d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超過・休日勤務が多い。疲弊してい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P-0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規模の見積り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P-0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計画立案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P-03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リスク計画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MC-03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リスク管理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e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進捗が遅れているときの対処が適切でない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MC-0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課題管理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テキスト ボックス 74"/>
          <p:cNvSpPr/>
          <p:nvPr/>
        </p:nvSpPr>
        <p:spPr>
          <a:xfrm>
            <a:off x="6838920" y="1085760"/>
            <a:ext cx="2928960" cy="2413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8.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工程完了・リリース管理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a)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コスト超過することが多い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P-0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規模の見積り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P-0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計画立案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MC-0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課題管理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b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納期遅延が多い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O16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測定活動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P-0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計画立案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MC-0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課題管理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c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製品品質が悪い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S4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検証計画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S4-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成果物レビューとテスト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S5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妥当性確認計画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S5-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妥当性確認実施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JRev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共同レビュー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Test-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回帰テスト戦略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S8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問題解決管理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d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顧客のクレームが多い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1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顧客ニーズ抽出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1-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顧客ニーズ変化獲得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S5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妥当性確認計画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S5-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妥当性確認実施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e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）間違ったソフトウェアをリリースしてしまう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S2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構成管理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の仕組み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S2-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構成管理計画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S2-3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変更管理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テキスト ボックス 75"/>
          <p:cNvSpPr/>
          <p:nvPr/>
        </p:nvSpPr>
        <p:spPr>
          <a:xfrm>
            <a:off x="10229760" y="1324080"/>
            <a:ext cx="2051280" cy="1741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a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納品後に障害が発生す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1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顧客ニーズ抽出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1-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顧客ニーズ変化獲得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JRev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共同レビュー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b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納期後にずるずると工数が発生す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P-0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規模の見積り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P-0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計画立案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1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顧客ニーズ抽出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31-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顧客ニーズ変化獲得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c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コストが超過す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PP-0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規模の見積り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S2-3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変更管理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O16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測定活動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テキスト ボックス 76"/>
          <p:cNvSpPr/>
          <p:nvPr/>
        </p:nvSpPr>
        <p:spPr>
          <a:xfrm>
            <a:off x="10253520" y="5500800"/>
            <a:ext cx="2278080" cy="829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a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設計書を修正せずに、ソースコードを修正してい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S2-1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構成管理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の仕組み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S2-2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構成管理計画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S2-3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変更管理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b)</a:t>
            </a:r>
            <a:r>
              <a:rPr b="1" lang="ja-JP" sz="900" spc="-1" strike="noStrike">
                <a:solidFill>
                  <a:srgbClr val="000000"/>
                </a:solidFill>
                <a:latin typeface="ＭＳ Ｐゴシック"/>
              </a:rPr>
              <a:t>変更に対する影響範囲が特定できない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WS-S2-3(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変更管理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直線コネクタ 58"/>
          <p:cNvSpPr/>
          <p:nvPr/>
        </p:nvSpPr>
        <p:spPr>
          <a:xfrm flipV="1">
            <a:off x="3587760" y="3052800"/>
            <a:ext cx="22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直線コネクタ 59"/>
          <p:cNvSpPr/>
          <p:nvPr/>
        </p:nvSpPr>
        <p:spPr>
          <a:xfrm flipH="1" flipV="1">
            <a:off x="5600520" y="3487320"/>
            <a:ext cx="15228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直線コネクタ 60"/>
          <p:cNvSpPr/>
          <p:nvPr/>
        </p:nvSpPr>
        <p:spPr>
          <a:xfrm flipH="1" flipV="1">
            <a:off x="8303760" y="3525840"/>
            <a:ext cx="297000" cy="3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線コネクタ 61"/>
          <p:cNvSpPr/>
          <p:nvPr/>
        </p:nvSpPr>
        <p:spPr>
          <a:xfrm flipV="1">
            <a:off x="10710720" y="3075120"/>
            <a:ext cx="544680" cy="159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直線コネクタ 62"/>
          <p:cNvSpPr/>
          <p:nvPr/>
        </p:nvSpPr>
        <p:spPr>
          <a:xfrm flipH="1" flipV="1">
            <a:off x="9470880" y="6008760"/>
            <a:ext cx="1619280" cy="93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直線コネクタ 63"/>
          <p:cNvSpPr/>
          <p:nvPr/>
        </p:nvSpPr>
        <p:spPr>
          <a:xfrm flipH="1" flipV="1">
            <a:off x="9056160" y="4997520"/>
            <a:ext cx="1197000" cy="9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線コネクタ 64"/>
          <p:cNvSpPr/>
          <p:nvPr/>
        </p:nvSpPr>
        <p:spPr>
          <a:xfrm flipH="1" flipV="1">
            <a:off x="7477200" y="6092640"/>
            <a:ext cx="90000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直線コネクタ 65"/>
          <p:cNvSpPr/>
          <p:nvPr/>
        </p:nvSpPr>
        <p:spPr>
          <a:xfrm flipV="1">
            <a:off x="4927680" y="6027840"/>
            <a:ext cx="29988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正方形/長方形 1"/>
          <p:cNvSpPr/>
          <p:nvPr/>
        </p:nvSpPr>
        <p:spPr>
          <a:xfrm>
            <a:off x="11016000" y="26352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13/3/15 Ver.2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0920" y="161640"/>
            <a:ext cx="11422080" cy="587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Calibri"/>
              </a:rPr>
              <a:t>改善計画・実績シート（例）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250920" y="4295880"/>
          <a:ext cx="12399840" cy="4751280"/>
        </p:xfrm>
        <a:graphic>
          <a:graphicData uri="http://schemas.openxmlformats.org/drawingml/2006/table">
            <a:tbl>
              <a:tblPr/>
              <a:tblGrid>
                <a:gridCol w="3719520"/>
                <a:gridCol w="1220760"/>
                <a:gridCol w="1260360"/>
                <a:gridCol w="1239840"/>
                <a:gridCol w="1239840"/>
                <a:gridCol w="1239840"/>
                <a:gridCol w="1239840"/>
                <a:gridCol w="1239840"/>
              </a:tblGrid>
              <a:tr h="60480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担当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250920" y="768240"/>
          <a:ext cx="12399840" cy="3360600"/>
        </p:xfrm>
        <a:graphic>
          <a:graphicData uri="http://schemas.openxmlformats.org/drawingml/2006/table">
            <a:tbl>
              <a:tblPr/>
              <a:tblGrid>
                <a:gridCol w="8064360"/>
                <a:gridCol w="4335480"/>
              </a:tblGrid>
              <a:tr h="1512720">
                <a:tc gridSpan="2"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改善目的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al</a:t>
                      </a: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・目標：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47880"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効果確認方法・確認タイミング：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結果（実績）：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正方形/長方形 2"/>
          <p:cNvSpPr/>
          <p:nvPr/>
        </p:nvSpPr>
        <p:spPr>
          <a:xfrm>
            <a:off x="6199200" y="4398840"/>
            <a:ext cx="5545080" cy="40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カレンダ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8960" y="61920"/>
            <a:ext cx="11520360" cy="6062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Calibri"/>
              </a:rPr>
              <a:t>改善実施実績・改善結果へのふり返り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150840" y="666720"/>
          <a:ext cx="12499920" cy="8997840"/>
        </p:xfrm>
        <a:graphic>
          <a:graphicData uri="http://schemas.openxmlformats.org/drawingml/2006/table">
            <a:tbl>
              <a:tblPr/>
              <a:tblGrid>
                <a:gridCol w="6048360"/>
                <a:gridCol w="6451560"/>
              </a:tblGrid>
              <a:tr h="1271520">
                <a:tc gridSpan="2"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ja-JP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振り返り観点：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ja-JP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①改善手段の効果／目標達成実績　②改善計画内容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0" lang="ja-JP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実践実績　③対応中に感じたこと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ep</a:t>
                      </a:r>
                      <a:r>
                        <a:rPr b="0" lang="ja-JP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よかったこと・継続したいこと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y</a:t>
                      </a:r>
                      <a:r>
                        <a:rPr b="0" lang="ja-JP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次にやりたいこと・次はどうすればよい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6680"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</a:t>
                      </a:r>
                      <a:r>
                        <a:rPr b="0" lang="ja-JP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うまくいかなかったこと・問題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5440">
                <a:tc>
                  <a:txBody>
                    <a:bodyPr lIns="128160" rIns="128160" tIns="64080" bIns="64080" anchor="t">
                      <a:noAutofit/>
                    </a:bodyPr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03:05:19Z</dcterms:created>
  <dc:creator>ＳＥＣ</dc:creator>
  <dc:description/>
  <dc:language>en-US</dc:language>
  <cp:lastModifiedBy>倉持 俊之</cp:lastModifiedBy>
  <dcterms:modified xsi:type="dcterms:W3CDTF">2017-01-28T11:53:02Z</dcterms:modified>
  <cp:revision>12</cp:revision>
  <dc:subject/>
  <dc:title>自律改善メソッド（シート類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1-9.1.0.4917</vt:lpwstr>
  </property>
</Properties>
</file>