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D65-C996-4644-88E9-F7D42ACB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1E7-73FF-48FD-8D19-FDEEE11A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78A-39D8-46AA-8723-AA34DC3C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CB7-6F89-4575-BCA4-47A9CDF5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DC2-0941-4AD3-98B2-32CCBC2E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B25-4DE8-4286-AE54-CF65DB03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1D8-F58B-4C95-B35C-0ED87BA7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DF1-7624-4AC6-90D9-FEDF101C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02B-3CCD-4E98-B18B-C24807BB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575-F261-4B87-86D4-50FE93E8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43F-4887-46F0-B3CA-2D784F95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230-F221-4ACD-B572-F78E3AA4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D6A1-0E5C-43AD-8B49-D57F47464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ロールプレイ説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149360"/>
            <a:ext cx="7920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２０ｘｘ／ｘ／ｘ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独）情報処理推進機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本部ソフトウェア・エンジニアリング・センタ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ールプレイの目的と成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的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-IP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格アセッサとして必要な、アセスメントの計画、実施、報告をチームリーダとして体験し、実際のアセスメントで使えるように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成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１．アセスメント依頼者へのヒアリングを通じ、的確なアセスメント範囲を定め、計画を作成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注）アセスメント依頼者が、対象ＰＪの内容を把握し　ていないような場合、実ＰＪの責任者へのヒアリングも実施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３．計画に従い、アセスメントを実施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４．実施の際、チームリーダとしてメンバーを指導でき、的確な結果を導き出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５．依頼者、アセッシへ報告が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ールプレイ概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～２日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・アセスメントの準備、計画から実施、報告までのひと通り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流れを体験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・この流れの中で、問題、課題が出てくる（は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３～５日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・前回の反省を踏まえ、同じプロジェクトで同じアセスメント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囲のアセスメントを実施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スケジュールは次の通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03320" y="115920"/>
            <a:ext cx="89326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ールプレイ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象プロセス：ソフトウェア要求分析プロ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構成管理プロ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取得プロセス（４プロセ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プロジェクト管理プロ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象範囲：水準２ま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評定方法：４値評定で実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施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１．上記４プロセスから、グループ内で重ならない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う個人のプロセスを決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２．依頼者へインタビューし、計画書を作成、承認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受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３．ドキュメントレビュー、インタビューを実施し、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定する（チー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４．報告書を作成し、承認を受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注意事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ケーススタディー１から４は同じプロジェクトですので、成果物は補完していると思っ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各プラクティスの解釈について、詳細が知りたい人は、アセッシ役の講師以外の講師に聞い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04:53:47Z</dcterms:created>
  <dc:creator>ＳＥＣ</dc:creator>
  <dc:description/>
  <dc:language>en-US</dc:language>
  <cp:lastModifiedBy>倉持 俊之</cp:lastModifiedBy>
  <dcterms:modified xsi:type="dcterms:W3CDTF">2013-03-18T07:56:53Z</dcterms:modified>
  <cp:revision>25</cp:revision>
  <dc:subject/>
  <dc:title>プロセス改善推進者育成教材</dc:title>
</cp:coreProperties>
</file>