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04D17-B2A3-4B0C-BEE7-38D1F5C6E3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5890-6B49-4C99-8666-1419E7E8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C4BC9-E1F1-4D2E-A002-1778E931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470A-5708-4DBB-8D27-A2BFF803F8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4DB9-846D-4418-804A-6EFAAF9D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295C-348A-4B7B-8D3E-31A0CFEA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E3C4-EEFB-41A6-946A-81A8F0B7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B9BF-8A9D-4AFC-AE96-0C422023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94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AE527-E115-4277-8391-2ABFD784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8725-A1CC-4687-BF38-4DEFD582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8E827-1B2A-4E6D-AB05-8F63CAB7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AF0F-0555-4A58-8C51-93A38A34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01A0-29E8-414C-9053-DD6FD121FB1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80988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9D84-5E59-499E-8257-BC543F18A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241200" y="444600"/>
          <a:ext cx="8686800" cy="637920"/>
        </p:xfrm>
        <a:graphic>
          <a:graphicData uri="http://schemas.openxmlformats.org/drawingml/2006/table">
            <a:tbl>
              <a:tblPr/>
              <a:tblGrid>
                <a:gridCol w="2065320"/>
                <a:gridCol w="1515960"/>
                <a:gridCol w="2293920"/>
                <a:gridCol w="1022400"/>
                <a:gridCol w="851040"/>
                <a:gridCol w="938160"/>
              </a:tblGrid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個別業務処理定義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サブ）システム名称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ビジネスプロセス名称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者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改廃月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個別業務処理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" name=""/>
          <p:cNvSpPr/>
          <p:nvPr/>
        </p:nvSpPr>
        <p:spPr>
          <a:xfrm>
            <a:off x="241200" y="1082520"/>
            <a:ext cx="8686800" cy="547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85520" y="6567480"/>
            <a:ext cx="217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出典：『エンドユーザによるビジネスシステム定義の進め方』　平成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月　社団法人日本情報システム・ユーザー協会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05:53:00Z</dcterms:created>
  <dc:creator/>
  <dc:description/>
  <dc:language>en-US</dc:language>
  <cp:lastModifiedBy>yo-koba</cp:lastModifiedBy>
  <dcterms:modified xsi:type="dcterms:W3CDTF">2006-09-27T11:16:08Z</dcterms:modified>
  <cp:revision>1</cp:revision>
  <dc:subject/>
  <dc:title>スライド 1</dc:title>
</cp:coreProperties>
</file>