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4BA60-DFCB-4096-B4B7-8D48135867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8C062-52E3-4137-8738-DB2F0A6D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A64C2-CD38-4F01-B968-581ADDA5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545BA-A8BC-423F-90D0-1A8D9AB27D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473D9-F004-47F4-B698-7585E6A3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9E526-CD7E-4FA0-953A-8378DD86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A48E4-FA2E-42D8-9003-C2D0634C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AC674-E0C5-4C62-A3B5-EBF15624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8394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84598-FDFA-4AE3-994C-A75FC5ED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C9DC1-0EE7-471E-8D29-122046D6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DCA44-6397-42D5-9DAC-74D51905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820EB-0785-4AB2-B4BA-47EA5684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4EBC-C2D9-4973-93C3-ABEE90049EE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809880" y="655272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45E1-3169-4A24-894B-3E83ADB00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34880" y="1247760"/>
            <a:ext cx="2079720" cy="2612880"/>
          </a:xfrm>
          <a:custGeom>
            <a:avLst/>
            <a:gdLst>
              <a:gd name="textAreaLeft" fmla="*/ 101520 w 2079720"/>
              <a:gd name="textAreaRight" fmla="*/ 1978200 w 2079720"/>
              <a:gd name="textAreaTop" fmla="*/ 101520 h 2612880"/>
              <a:gd name="textAreaBottom" fmla="*/ 2511360 h 2612880"/>
            </a:gdLst>
            <a:ahLst/>
            <a:rect l="textAreaLeft" t="textAreaTop" r="textAreaRight" b="textAreaBottom"/>
            <a:pathLst>
              <a:path w="21600" h="27136">
                <a:moveTo>
                  <a:pt x="3600" y="0"/>
                </a:moveTo>
                <a:arcTo wR="3600" hR="3600" stAng="16200000" swAng="-5400000"/>
                <a:lnTo>
                  <a:pt x="0" y="23536"/>
                </a:lnTo>
                <a:arcTo wR="3600" hR="3600" stAng="10800000" swAng="-5400000"/>
                <a:lnTo>
                  <a:pt x="18000" y="27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957240" y="3065400"/>
            <a:ext cx="1143000" cy="566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今回対象外範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57240" y="2143080"/>
            <a:ext cx="1143000" cy="41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ビジネスプロ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16120" y="1492200"/>
            <a:ext cx="1379520" cy="4366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外部組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06560" y="2919240"/>
            <a:ext cx="1093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3200" y="263520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情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457200"/>
          <a:ext cx="8458200" cy="698400"/>
        </p:xfrm>
        <a:graphic>
          <a:graphicData uri="http://schemas.openxmlformats.org/drawingml/2006/table">
            <a:tbl>
              <a:tblPr/>
              <a:tblGrid>
                <a:gridCol w="2011320"/>
                <a:gridCol w="1112760"/>
                <a:gridCol w="2597040"/>
                <a:gridCol w="995400"/>
                <a:gridCol w="828720"/>
                <a:gridCol w="912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機能情報関連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システム名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成者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成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改廃月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サブ）システム名称</a:t>
                      </a: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ビジネスプロセス名称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04920" y="1155600"/>
            <a:ext cx="8458200" cy="542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85520" y="6567480"/>
            <a:ext cx="217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出典：『エンドユーザによるビジネスシステム定義の進め方』　平成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月　社団法人日本情報システム・ユーザー協会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05:53:00Z</dcterms:created>
  <dc:creator/>
  <dc:description/>
  <dc:language>en-US</dc:language>
  <cp:lastModifiedBy>yo-koba</cp:lastModifiedBy>
  <dcterms:modified xsi:type="dcterms:W3CDTF">2006-09-27T11:04:09Z</dcterms:modified>
  <cp:revision>1</cp:revision>
  <dc:subject/>
  <dc:title>スライド 1</dc:title>
</cp:coreProperties>
</file>