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0872-E4A8-4155-BC96-FD64BEB83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3280E-B6D8-4C74-97C6-CEA5C210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B4396-D1B6-465A-A957-52478832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C31CC-52F4-4EA4-A406-2523AF61D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0885-F003-4753-A004-DEDBB357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06F0-B7C4-4DA1-802B-E544C17B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28C76-76BE-4FB9-8691-05577B1E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F69D-6A1A-4A37-9DC5-D7BB37E6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E780-2BCB-4609-B7DD-A6746009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72D2-BF10-4A8C-B36E-83BBE0E0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52A62-1F6D-4957-A256-1899A4B5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8472E-0D5B-4B5B-938F-4087E484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520A-D493-4110-A155-E671ECC0F9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898C-F9C5-4D8E-BB89-A9D981F8C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1577880"/>
            <a:ext cx="4197600" cy="7844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1852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04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23344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30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記述ル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5080" y="17226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情報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物流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金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177624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外部組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内部組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776240"/>
            <a:ext cx="3812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2081160"/>
            <a:ext cx="381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304920"/>
          <a:ext cx="8458200" cy="698400"/>
        </p:xfrm>
        <a:graphic>
          <a:graphicData uri="http://schemas.openxmlformats.org/drawingml/2006/table">
            <a:tbl>
              <a:tblPr/>
              <a:tblGrid>
                <a:gridCol w="2057400"/>
                <a:gridCol w="990360"/>
                <a:gridCol w="2673360"/>
                <a:gridCol w="995400"/>
                <a:gridCol w="828720"/>
                <a:gridCol w="912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ビジネス連携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システム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サブ）システム名称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ビジネスプロセス名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04920" y="1003320"/>
            <a:ext cx="8458200" cy="55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85520" y="6567480"/>
            <a:ext cx="21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0:52:44Z</dcterms:modified>
  <cp:revision>1</cp:revision>
  <dc:subject/>
  <dc:title>スライド 1</dc:title>
</cp:coreProperties>
</file>