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7598-9C78-44E2-A674-5D946CCCCF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CFA7-69D6-4D00-B69D-DD4AC3E1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1EB1-9523-41F3-8318-CE39BC11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15F9-CC96-4238-966E-907A43594C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3D8B-8633-479C-8243-ABD7189F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6FDF-F8F8-4C5B-8039-44D6592D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2872-C899-49FB-AA72-40671569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2AF8-FCDA-45DD-9265-1C3F52FF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9AB0-9DFC-4447-BA88-6D036EF2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6D6D-9196-4584-A6D7-6787159F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9116-8D06-4AC6-A2B4-16BB591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0BA5-207A-4521-9632-30F1B3FA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D363-ED54-4B10-9731-D5073E6926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8098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B25-5097-444A-A72C-AE5388B6A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1003320"/>
            <a:ext cx="8458200" cy="55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44400" y="1219320"/>
            <a:ext cx="2632320" cy="2597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72736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外部組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67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81160" y="2003400"/>
            <a:ext cx="156204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ビジネス機能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今回対象範囲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1160" y="1393920"/>
            <a:ext cx="15620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ビジネス機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3541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457200"/>
          <a:ext cx="8458200" cy="54612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2901960"/>
                <a:gridCol w="995400"/>
                <a:gridCol w="828720"/>
                <a:gridCol w="912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ビジネス機能関連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システム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者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改廃月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5285520" y="6567480"/>
            <a:ext cx="21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出典：『エンドユーザによるビジネスシステム定義の進め方』　平成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月　社団法人日本情報システム・ユーザー協会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5:53:00Z</dcterms:created>
  <dc:creator/>
  <dc:description/>
  <dc:language>en-US</dc:language>
  <cp:lastModifiedBy>yo-koba</cp:lastModifiedBy>
  <dcterms:modified xsi:type="dcterms:W3CDTF">2006-09-27T10:51:44Z</dcterms:modified>
  <cp:revision>1</cp:revision>
  <dc:subject/>
  <dc:title>スライド 1</dc:title>
</cp:coreProperties>
</file>